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4425-F4CF-4D77-939D-1D0E0FFDC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32E5-5EFB-4B5C-A1C0-A66445E3F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D7BC-AC43-4C79-A4E8-E092137B4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C94A-F80B-4201-BBB9-B4AB78D39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74F4-EAB7-4848-AB0D-9759865EC6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03E1-6E69-4729-A4AA-7A6631CDF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258C-0C3D-47F3-9F54-CD4B541F41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9EB4-036D-4771-888D-1D64F8ACD1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E7C6-3B10-42FD-9F24-3FCC87EE7E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AB77-C92F-4AE5-BC82-B65DE4F587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D714-1E52-4A59-8B28-166998362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70E4-5AEA-4A6A-9438-69870E3B4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6219-24E8-4645-BF0D-F6537C8057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022A-427B-4421-ACBD-3484561173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6017-C97B-4404-B487-E2DF8E37A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B880-169E-4890-96AC-665B4AFA14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7C94-F7AA-4EF4-98B2-279E8F77D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4BDB-F226-4CB6-94C1-A739FABD8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9024-46C2-4DAB-8E20-27CAC1D82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548E-8179-4CD3-8869-874E4610B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3890-DEBC-44CC-B3EB-E2765A66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2911-49A8-4D5C-BEE2-D12A2F76B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6CCC-0147-4F16-94F3-514FDEF27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8AA3-A0E5-418E-8C9F-AC1113A71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24E3-0BB3-4FF8-8EDC-4E534DB4E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27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028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AutoShape 1029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030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1031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3EDE-807B-4AD0-A340-1BA19BF8D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F94-5CD5-41B0-BDE8-24E65B6AF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hapter 15 - Class string and String Stream Processing</a:t>
            </a:r>
            <a:endParaRPr b="1" lang="en-US" sz="36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85800" y="1301760"/>
            <a:ext cx="7772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Assignment and Concate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mparing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ub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ping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Characterist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nding Strings and Characters in a 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ing Characters in a 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serting Characters into a 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version to C-Style char *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ter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Stream Process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478-5202-48A9-A440-55FC4F72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3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Comparing string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&gt;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1.compare(s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sitive if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exicographically gre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letter by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xicographically greater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gative if less, zero if eq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compare(start, length, s2, start,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    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compare(start, length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ll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F404-4F25-418E-A65C-930168C6C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2: fig15_0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comparison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omparison function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i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2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A23-3F96-4470-9FF0-963AB1297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and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== string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=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ring1 != string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&gt; string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g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1 &lt;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l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1 and strin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ring1.compare( string2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3047760" y="1440000"/>
            <a:ext cx="5867640" cy="1379880"/>
            <a:chOff x="3047760" y="1440000"/>
            <a:chExt cx="5867640" cy="1379880"/>
          </a:xfrm>
        </p:grpSpPr>
        <p:sp>
          <p:nvSpPr>
            <p:cNvPr id="141" name="Text Box 5"/>
            <p:cNvSpPr/>
            <p:nvPr/>
          </p:nvSpPr>
          <p:spPr>
            <a:xfrm>
              <a:off x="4495680" y="1440000"/>
              <a:ext cx="441972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Testing the comparison functions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Hell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sting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Hell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 &gt; string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 flipH="1" flipV="1">
              <a:off x="3047760" y="1440000"/>
              <a:ext cx="1447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3048120" y="685800"/>
            <a:ext cx="4038480" cy="590400"/>
            <a:chOff x="3048120" y="685800"/>
            <a:chExt cx="4038480" cy="590400"/>
          </a:xfrm>
        </p:grpSpPr>
        <p:sp>
          <p:nvSpPr>
            <p:cNvPr id="144" name="Text Box 8"/>
            <p:cNvSpPr/>
            <p:nvPr/>
          </p:nvSpPr>
          <p:spPr>
            <a:xfrm>
              <a:off x="441972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verloa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3048120" y="990720"/>
              <a:ext cx="13716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7766-AE14-45C9-A014-80DA3DBC6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(elements 2-5) and string3 (elements 0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1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4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.length(), string2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g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l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2742840" y="664920"/>
            <a:ext cx="3810240" cy="337680"/>
            <a:chOff x="2742840" y="664920"/>
            <a:chExt cx="3810240" cy="337680"/>
          </a:xfrm>
        </p:grpSpPr>
        <p:sp>
          <p:nvSpPr>
            <p:cNvPr id="150" name="Text Box 4"/>
            <p:cNvSpPr/>
            <p:nvPr/>
          </p:nvSpPr>
          <p:spPr>
            <a:xfrm>
              <a:off x="3886200" y="66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 flipH="1" flipV="1">
              <a:off x="2742840" y="6649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D1A4-2A8D-4091-8E12-8A480E8B5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2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g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l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32767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95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Testing the comparison func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Hell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stin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Hell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&gt; string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string2 ) &gt;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2, 5, string3, 0, 5 ) =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.compare( 0, string2.length(), string2 ) =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.compare( 0, 3, string4 ) &lt;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1564-39C8-4E3C-BC47-36AE393D4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4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ubstring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1.substr(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beginning with inde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ub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4F6-07F3-4790-A9EE-21B7E1743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3: fig15_03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 subst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irplane landed on tim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rieve substring "plane"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s at subscript 7 and consists of 5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50292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92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3429000" y="3103560"/>
            <a:ext cx="4572000" cy="858960"/>
            <a:chOff x="3429000" y="3103560"/>
            <a:chExt cx="4572000" cy="858960"/>
          </a:xfrm>
        </p:grpSpPr>
        <p:sp>
          <p:nvSpPr>
            <p:cNvPr id="164" name="Text Box 6"/>
            <p:cNvSpPr/>
            <p:nvPr/>
          </p:nvSpPr>
          <p:spPr>
            <a:xfrm>
              <a:off x="5334120" y="310356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b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 flipH="1">
              <a:off x="3429000" y="327672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" dur="1" fill="hold"/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179B-E1F4-4C30-A653-5D89724FF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5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wapping string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s1.swap(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tch contents of tw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8D05-AD1D-4FAC-AEC7-E2CAAD6C2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4: fig15_04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swap function to swap two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w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co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.swap( secon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cond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2133360" y="3733920"/>
            <a:ext cx="4115160" cy="838080"/>
            <a:chOff x="2133360" y="3733920"/>
            <a:chExt cx="4115160" cy="838080"/>
          </a:xfrm>
        </p:grpSpPr>
        <p:sp>
          <p:nvSpPr>
            <p:cNvPr id="173" name="Text Box 5"/>
            <p:cNvSpPr/>
            <p:nvPr/>
          </p:nvSpPr>
          <p:spPr>
            <a:xfrm>
              <a:off x="3581280" y="37339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H="1">
              <a:off x="21333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85F9-2E94-4010-8DAB-ACEE3CE8F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swa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6D0-53EA-43C4-B25D-1B81884C0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asic_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manipulation (copying, searching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def basic_string&lt; char 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char_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&lt;stri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 s1( "Hello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 s2( 8, 'x'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'x'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 month = "March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all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E0E-F1D7-45B4-8545-1AF46BFC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6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tring Characteristic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size(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capaci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elements that can be stored without re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max_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ossible string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empty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resize(new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zes string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B39-71B4-4086-9FDE-A90F7B4C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5: fig15_0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s related to size and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istics before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alph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tomat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nter a 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197F-87A4-41E5-90E9-7CC6B1313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tistics after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soup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maining string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46 characters to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abcdefghijklmnopqrstuvwxyz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ing1 is now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10 elements to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resize( string1.leng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ats after resizing by (length + 10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3504960" y="2590920"/>
            <a:ext cx="2895840" cy="838080"/>
            <a:chOff x="3504960" y="2590920"/>
            <a:chExt cx="2895840" cy="838080"/>
          </a:xfrm>
        </p:grpSpPr>
        <p:sp>
          <p:nvSpPr>
            <p:cNvPr id="188" name="Text Box 4"/>
            <p:cNvSpPr/>
            <p:nvPr/>
          </p:nvSpPr>
          <p:spPr>
            <a:xfrm>
              <a:off x="4952880" y="25909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ize string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H="1">
              <a:off x="3504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84A7-4A60-4E78-AAD8-1546AD27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ring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Re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paci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capacity(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 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max_siz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size()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ength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length()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empty();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2438280"/>
            <a:ext cx="7010280" cy="358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98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before inpu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tring: tomato sou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entered was: toma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after inpu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4800600" y="152280"/>
            <a:ext cx="4114800" cy="838440"/>
            <a:chOff x="4800600" y="152280"/>
            <a:chExt cx="4114800" cy="838440"/>
          </a:xfrm>
        </p:grpSpPr>
        <p:sp>
          <p:nvSpPr>
            <p:cNvPr id="195" name="Text Box 5"/>
            <p:cNvSpPr/>
            <p:nvPr/>
          </p:nvSpPr>
          <p:spPr>
            <a:xfrm>
              <a:off x="6248520" y="152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various string characteristics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H="1">
              <a:off x="4800600" y="304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" dur="1" fill="hold"/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C70-A8C8-4F80-8446-DBDF9628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ing string is: 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 now: soup1234567890abcdefghijklmnopqrstuvwxyz12345678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after resizing by (length + 1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01F5-D292-47CB-A636-C434BBFC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ound, index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found,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constant in class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r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right-to-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find_fir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 occurrence of any character i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1.find_frist_of( "abcd"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ndex of firs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'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'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C8ED-AF6A-4B42-A883-CC89CD4BE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find_la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occurrence of any character i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find_fir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charact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find_la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charact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1ED-8736-4E2C-8E9C-430FF9F4E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6: fig15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tring find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"is" at location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r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r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o' at loc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4038120" y="4572000"/>
            <a:ext cx="4115160" cy="837720"/>
            <a:chOff x="4038120" y="4572000"/>
            <a:chExt cx="4115160" cy="837720"/>
          </a:xfrm>
        </p:grpSpPr>
        <p:sp>
          <p:nvSpPr>
            <p:cNvPr id="210" name="Text Box 4"/>
            <p:cNvSpPr/>
            <p:nvPr/>
          </p:nvSpPr>
          <p:spPr>
            <a:xfrm>
              <a:off x="548604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first occurre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 flipH="1">
              <a:off x="4038120" y="47242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8"/>
          <p:cNvGrpSpPr/>
          <p:nvPr/>
        </p:nvGrpSpPr>
        <p:grpSpPr>
          <a:xfrm>
            <a:off x="2590560" y="3505320"/>
            <a:ext cx="4115160" cy="838080"/>
            <a:chOff x="2590560" y="3505320"/>
            <a:chExt cx="4115160" cy="838080"/>
          </a:xfrm>
        </p:grpSpPr>
        <p:sp>
          <p:nvSpPr>
            <p:cNvPr id="213" name="Text Box 6"/>
            <p:cNvSpPr/>
            <p:nvPr/>
          </p:nvSpPr>
          <p:spPr>
            <a:xfrm>
              <a:off x="40384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 flipH="1">
              <a:off x="25905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CB5-C79C-4593-8BCF-195BA3BD2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m' at location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la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la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1' at location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noi spm\" and was 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.' at locatio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12noi spm\" and wa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3276360" y="685800"/>
            <a:ext cx="4115160" cy="3429000"/>
            <a:chOff x="3276360" y="685800"/>
            <a:chExt cx="4115160" cy="3429000"/>
          </a:xfrm>
        </p:grpSpPr>
        <p:sp>
          <p:nvSpPr>
            <p:cNvPr id="219" name="Text Box 6"/>
            <p:cNvSpPr/>
            <p:nvPr/>
          </p:nvSpPr>
          <p:spPr>
            <a:xfrm>
              <a:off x="4724280" y="685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to other find functions similar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H="1">
              <a:off x="3276360" y="838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 flipH="1">
              <a:off x="3429000" y="838080"/>
              <a:ext cx="1295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 flipH="1">
              <a:off x="3733560" y="838080"/>
              <a:ext cx="99036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2A3A-50B5-497E-93EF-600A71A1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characters not in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nd_first_not_of(\"noon is 12 p.m.\"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turn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2133720"/>
            <a:ext cx="7010280" cy="365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on is 12 p.m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) "is" was found at: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rfind) "is" was found at: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of) found 'o' from the group "misop" at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last_of) found 'm' from the group "misop" at: 1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1' is not contained in "noi spm" and was found at: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.' is not contained in "12noi spm" and was found at: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_first_not_of("noon is 12 p.m.") returned: 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2EE-B41B-46D8-91F5-1657DDF4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definitions ar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 error1 = 'c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 error2( 'u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 error3 = 2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 error4( 8 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assign to o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 = 'n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A430-1764-4776-BDEB-6983F7955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8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Replacing Characters in a str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1.erase( star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ase from index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nd of string, including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replace( begin, N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dex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art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characters to 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placemen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replace( begin, N, s2, index, num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emen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replacement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elements to use when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can overwrit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resents max string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3D61-B143-4D22-83A1-94822EC83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7: fig15_07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s erase and re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piler concatenates all parts into one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in any left subtre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re less than the value in th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parent node and the values i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ny right subtree are greate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the value in the parent n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ll characters from (and including) location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ugh the end of string1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er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1A2-C8B4-40A1-A20A-9553837F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new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 after eras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first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spaces with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econd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periods with two semico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E: this will overwrite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xxx;;yy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4114800" y="1066680"/>
            <a:ext cx="4114800" cy="838440"/>
            <a:chOff x="4114800" y="1066680"/>
            <a:chExt cx="4114800" cy="838440"/>
          </a:xfrm>
        </p:grpSpPr>
        <p:sp>
          <p:nvSpPr>
            <p:cNvPr id="237" name="Text Box 4"/>
            <p:cNvSpPr/>
            <p:nvPr/>
          </p:nvSpPr>
          <p:spPr>
            <a:xfrm>
              <a:off x="5562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each space and replace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 flipH="1">
              <a:off x="4114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3885840" y="2437920"/>
            <a:ext cx="3734280" cy="962280"/>
            <a:chOff x="3885840" y="2437920"/>
            <a:chExt cx="3734280" cy="962280"/>
          </a:xfrm>
        </p:grpSpPr>
        <p:sp>
          <p:nvSpPr>
            <p:cNvPr id="240" name="Text Box 7"/>
            <p:cNvSpPr/>
            <p:nvPr/>
          </p:nvSpPr>
          <p:spPr>
            <a:xfrm>
              <a:off x="49528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rt each search at the next position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H="1" flipV="1">
              <a:off x="3885840" y="243792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2"/>
          <p:cNvGrpSpPr/>
          <p:nvPr/>
        </p:nvGrpSpPr>
        <p:grpSpPr>
          <a:xfrm>
            <a:off x="4419360" y="3505320"/>
            <a:ext cx="4115160" cy="838080"/>
            <a:chOff x="4419360" y="3505320"/>
            <a:chExt cx="4115160" cy="838080"/>
          </a:xfrm>
        </p:grpSpPr>
        <p:sp>
          <p:nvSpPr>
            <p:cNvPr id="243" name="Text Box 10"/>
            <p:cNvSpPr/>
            <p:nvPr/>
          </p:nvSpPr>
          <p:spPr>
            <a:xfrm>
              <a:off x="5867280" y="3505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ac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wo semicolons (the two characters at index 5)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 flipH="1">
              <a:off x="44193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5"/>
          <p:cNvGrpSpPr/>
          <p:nvPr/>
        </p:nvGrpSpPr>
        <p:grpSpPr>
          <a:xfrm>
            <a:off x="3200400" y="228600"/>
            <a:ext cx="3124080" cy="1428840"/>
            <a:chOff x="3200400" y="228600"/>
            <a:chExt cx="3124080" cy="1428840"/>
          </a:xfrm>
        </p:grpSpPr>
        <p:sp>
          <p:nvSpPr>
            <p:cNvPr id="246" name="Text Box 13"/>
            <p:cNvSpPr/>
            <p:nvPr/>
          </p:nvSpPr>
          <p:spPr>
            <a:xfrm>
              <a:off x="365760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::n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presents max string length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 flipH="1">
              <a:off x="3200400" y="81900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" dur="1" fill="hold"/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F42-7D67-4595-89AA-B374134D7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node and the valu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y right subtree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the value in the paren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 after er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first replac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.values.in.any.left.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.less.than.the.value.in.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econd replac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;;alues;;n;;ny;;eft;;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;;ess;;han;;he;;alue;;n;;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0B1B-AC92-406B-B794-BE8DB030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9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Inserting Characters into a str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1.insert( index, s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1.insert( index, s2, index2, N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substring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starting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FB4A-58FD-40BD-8B24-21BDC6BB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8: fig15_08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lass string insert member fu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ginning 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ddl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strings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middle" at location 10 in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 );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258" name="Text Box 4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element 10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8" dur="1" fill="hold"/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3157-B895-4ADE-8D4B-6EC15EB0D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xx" at location 3 in string3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 after insert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2362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96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tring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e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4567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 after inser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middle e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xx4567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2819520" y="685440"/>
            <a:ext cx="3504960" cy="1495440"/>
            <a:chOff x="2819520" y="685440"/>
            <a:chExt cx="3504960" cy="1495440"/>
          </a:xfrm>
        </p:grpSpPr>
        <p:sp>
          <p:nvSpPr>
            <p:cNvPr id="265" name="Text Box 5"/>
            <p:cNvSpPr/>
            <p:nvPr/>
          </p:nvSpPr>
          <p:spPr>
            <a:xfrm>
              <a:off x="3657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6"/>
            <p:cNvSpPr/>
            <p:nvPr/>
          </p:nvSpPr>
          <p:spPr>
            <a:xfrm flipH="1" flipV="1">
              <a:off x="2819520" y="68544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7" dur="1" fill="hold"/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E4C6-6FF4-4AA4-AE84-202D5C8BA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0  Conversion to C-Style char * String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not necessaril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copy( ptr, N, index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into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null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c_st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dat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BBE-5C44-4B2D-8307-127749A1B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9: fig15_09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to C-style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ing1.length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2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characters from string1 into allocated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copy( ptr2, 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2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ull ter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converted to a C-Style string is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c_str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"/>
          <p:cNvGrpSpPr/>
          <p:nvPr/>
        </p:nvGrpSpPr>
        <p:grpSpPr>
          <a:xfrm>
            <a:off x="1828440" y="2819520"/>
            <a:ext cx="4724640" cy="2819160"/>
            <a:chOff x="1828440" y="2819520"/>
            <a:chExt cx="4724640" cy="2819160"/>
          </a:xfrm>
        </p:grpSpPr>
        <p:sp>
          <p:nvSpPr>
            <p:cNvPr id="274" name="Text Box 5"/>
            <p:cNvSpPr/>
            <p:nvPr/>
          </p:nvSpPr>
          <p:spPr>
            <a:xfrm>
              <a:off x="3886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_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 flipH="1">
              <a:off x="1828440" y="2971800"/>
              <a:ext cx="2057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 flipH="1">
              <a:off x="2514600" y="2971800"/>
              <a:ext cx="13716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6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7E4-B64D-43C8-8375-5AC8FB6A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to pointer ptr1 the const char * returned by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data(). NOTE: this is a potential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. If string1 is modified, pointer ptr1 ca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come invalid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1 = string1.data();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ach character using 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ength; i++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( ptr1 + i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pointer arith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tr2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37339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is STRIN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converted to a C-Style string is STRIN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1 is STRIN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2 is STRIN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25C2-58A7-451E-8DAD-223A63DA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cessarily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: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individual characters: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1[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member functions take start position and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ngth argument too large, max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n &gt;&gt; string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getline( cin,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d by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5E8A-200D-4522-BF03-A28C0541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wards and backwards traversal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to 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pointer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verage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07F-A9BA-4096-9E1D-F3930C6A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::const_iterator i = s.begi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not modify string (more Chapter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; // referen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; // traverse one character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end of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!= s.e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after la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389-600E-4E18-9AF3-CDED7D50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0: fig15_10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terator to output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iterat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::const_iterator iterator1 = string1.begi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Using iterator iterator1) 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string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1 != string1.end() ) {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eference iterator to get 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vance iterator to next char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3200400" y="3657600"/>
            <a:ext cx="4114800" cy="838080"/>
            <a:chOff x="3200400" y="3657600"/>
            <a:chExt cx="4114800" cy="838080"/>
          </a:xfrm>
        </p:grpSpPr>
        <p:sp>
          <p:nvSpPr>
            <p:cNvPr id="291" name="Text Box 5"/>
            <p:cNvSpPr/>
            <p:nvPr/>
          </p:nvSpPr>
          <p:spPr>
            <a:xfrm>
              <a:off x="4648320" y="3657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each character using the iterator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 flipH="1">
              <a:off x="320040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178-B096-472F-BCD3-460C4B5ED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esting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Using iterator iterator1) string1 is: Testing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497-919E-46E3-9A1D-B3E371A64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strings to and fro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n-memory I/O or string stream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from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to a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ing formatting to save data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624A-960B-4C5D-BBF9-87F89A8BD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ingstream outputStr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String &lt;&lt; s1 &lt;&lt; s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was output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ing.st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E56E-D1B3-4492-BD6E-F535A0CC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1: fig15_1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dynamically allocated ostringstream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ingstrea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stringstream outputString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ingstream 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 of several data type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an ostringstream objec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ddress of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2438280" y="2971800"/>
            <a:ext cx="4114800" cy="838080"/>
            <a:chOff x="2438280" y="2971800"/>
            <a:chExt cx="4114800" cy="838080"/>
          </a:xfrm>
        </p:grpSpPr>
        <p:sp>
          <p:nvSpPr>
            <p:cNvPr id="306" name="Text Box 4"/>
            <p:cNvSpPr/>
            <p:nvPr/>
          </p:nvSpPr>
          <p:spPr>
            <a:xfrm>
              <a:off x="3886200" y="2971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 flipH="1">
              <a:off x="24382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4" dur="1" fill="hold"/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E81B-AE52-48D9-B400-1ADA19DE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.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, double and int to outputString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string1 &lt;&lt; string2 &lt;&lt; string3 &lt;&lt; double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&lt;&lt; string4 &lt;&lt; integer &lt;&lt; string5 &lt;&lt; &amp;integ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tr to output contents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dditional characters and call str to output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re characters add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dditional stream insertions,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1676520" y="1523880"/>
            <a:ext cx="3962160" cy="1876320"/>
            <a:chOff x="1676520" y="1523880"/>
            <a:chExt cx="3962160" cy="1876320"/>
          </a:xfrm>
        </p:grpSpPr>
        <p:sp>
          <p:nvSpPr>
            <p:cNvPr id="312" name="Text Box 4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format just like to writing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"/>
            <p:cNvSpPr/>
            <p:nvPr/>
          </p:nvSpPr>
          <p:spPr>
            <a:xfrm flipH="1" flipV="1">
              <a:off x="1676520" y="152388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F60-85D2-4F4B-8527-8370C236C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dditional stream inser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re characters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667-3DCA-41D6-99E9-08A29265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ingstream inputString ( myString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String &gt;&gt; string1 &gt;&gt; string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ading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95A2-46AC-4968-A73A-FF42377C5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2 = s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separate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2.assign(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myString.assign(s, start, 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2[0] = s3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81E-EFFC-436D-80F3-4185699A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2: fig15_1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from an istringstream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ingstrea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n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est 123 4.7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stringstream inputString( inpu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3581280" y="3276720"/>
            <a:ext cx="4114800" cy="838080"/>
            <a:chOff x="3581280" y="3276720"/>
            <a:chExt cx="4114800" cy="838080"/>
          </a:xfrm>
        </p:grpSpPr>
        <p:sp>
          <p:nvSpPr>
            <p:cNvPr id="324" name="Text Box 4"/>
            <p:cNvSpPr/>
            <p:nvPr/>
          </p:nvSpPr>
          <p:spPr>
            <a:xfrm>
              <a:off x="502920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"/>
            <p:cNvSpPr/>
            <p:nvPr/>
          </p:nvSpPr>
          <p:spPr>
            <a:xfrm flipH="1">
              <a:off x="35812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2" dur="1" fill="hold"/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10D-BC7C-4881-B06A-12FB2122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string1 &gt;&gt; string2 &gt;&gt; integer &gt;&gt; doub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&gt;&gt; character;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following items were extracted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om the istringstream object: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read from empty 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eam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String.good(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ng valu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String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6"/>
          <p:cNvGrpSpPr/>
          <p:nvPr/>
        </p:nvGrpSpPr>
        <p:grpSpPr>
          <a:xfrm>
            <a:off x="1523520" y="457200"/>
            <a:ext cx="4877280" cy="1175400"/>
            <a:chOff x="1523520" y="457200"/>
            <a:chExt cx="4877280" cy="1175400"/>
          </a:xfrm>
        </p:grpSpPr>
        <p:sp>
          <p:nvSpPr>
            <p:cNvPr id="330" name="Text Box 4"/>
            <p:cNvSpPr/>
            <p:nvPr/>
          </p:nvSpPr>
          <p:spPr>
            <a:xfrm>
              <a:off x="3733920" y="129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data into variables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 flipV="1">
              <a:off x="1523520" y="457200"/>
              <a:ext cx="2210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2819160" y="3048120"/>
            <a:ext cx="4115160" cy="1067400"/>
            <a:chOff x="2819160" y="3048120"/>
            <a:chExt cx="4115160" cy="1067400"/>
          </a:xfrm>
        </p:grpSpPr>
        <p:sp>
          <p:nvSpPr>
            <p:cNvPr id="333" name="Text Box 7"/>
            <p:cNvSpPr/>
            <p:nvPr/>
          </p:nvSpPr>
          <p:spPr>
            <a:xfrm>
              <a:off x="4267080" y="3048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1 if can still read data (no EOF, bad bits, etc). In this case, there is no data, so the test fails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8"/>
            <p:cNvSpPr/>
            <p:nvPr/>
          </p:nvSpPr>
          <p:spPr>
            <a:xfrm flipH="1">
              <a:off x="28191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8B5-29A0-4167-96AA-195FA8C0A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ollowing items were ex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he istringstream ob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tring is emp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1AE4-D99F-4AE7-982B-900C238CD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0000ff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3.at( index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haracter a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row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ut_of_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3.append( "pet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3 += "pet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pe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3.append( s1,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3A8-4A5E-4A25-BC07-12E30223C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: fig15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assignment and concate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;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 = string1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string1 to strin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assign( string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tring1 to stri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2361960" y="2209680"/>
            <a:ext cx="4115160" cy="1752840"/>
            <a:chOff x="2361960" y="2209680"/>
            <a:chExt cx="4115160" cy="1752840"/>
          </a:xfrm>
        </p:grpSpPr>
        <p:sp>
          <p:nvSpPr>
            <p:cNvPr id="109" name="Text Box 6"/>
            <p:cNvSpPr/>
            <p:nvPr/>
          </p:nvSpPr>
          <p:spPr>
            <a:xfrm>
              <a:off x="38098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initialization and assignmen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 flipH="1">
              <a:off x="23619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 flipH="1">
              <a:off x="2361960" y="23623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3504960" y="3124080"/>
            <a:ext cx="4115160" cy="1219320"/>
            <a:chOff x="3504960" y="3124080"/>
            <a:chExt cx="4115160" cy="1219320"/>
          </a:xfrm>
        </p:grpSpPr>
        <p:sp>
          <p:nvSpPr>
            <p:cNvPr id="113" name="Text Box 10"/>
            <p:cNvSpPr/>
            <p:nvPr/>
          </p:nvSpPr>
          <p:spPr>
            <a:xfrm>
              <a:off x="4952880" y="3124080"/>
              <a:ext cx="266724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pu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ca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 flipH="1">
              <a:off x="3504960" y="350532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876D-E9A1-4161-92AD-595C0B569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y string2 and string3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modification of string2 and string3: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monstrating member function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tring3.length(); i++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3.at( i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clare string4 and string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ul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+=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rpet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om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tacom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subscript locations 4 through end of string1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tring "comb" (string5 was initially empty)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5.append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1.length() );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ncatenation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5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5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2895120" y="1447920"/>
            <a:ext cx="5410800" cy="1167120"/>
            <a:chOff x="2895120" y="1447920"/>
            <a:chExt cx="5410800" cy="1167120"/>
          </a:xfrm>
        </p:grpSpPr>
        <p:sp>
          <p:nvSpPr>
            <p:cNvPr id="119" name="Text Box 4"/>
            <p:cNvSpPr/>
            <p:nvPr/>
          </p:nvSpPr>
          <p:spPr>
            <a:xfrm>
              <a:off x="4191120" y="1676520"/>
              <a:ext cx="411480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modification of string2 and string3: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H="1" flipV="1">
              <a:off x="2895120" y="144792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2514600" y="2361960"/>
            <a:ext cx="3124080" cy="1038240"/>
            <a:chOff x="2514600" y="2361960"/>
            <a:chExt cx="3124080" cy="1038240"/>
          </a:xfrm>
        </p:grpSpPr>
        <p:sp>
          <p:nvSpPr>
            <p:cNvPr id="122" name="Text Box 7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stea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"/>
            <p:cNvSpPr/>
            <p:nvPr/>
          </p:nvSpPr>
          <p:spPr>
            <a:xfrm flipH="1" flipV="1">
              <a:off x="2514600" y="23619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3962520" y="3726000"/>
            <a:ext cx="4343400" cy="1379880"/>
            <a:chOff x="3962520" y="3726000"/>
            <a:chExt cx="4343400" cy="1379880"/>
          </a:xfrm>
        </p:grpSpPr>
        <p:sp>
          <p:nvSpPr>
            <p:cNvPr id="125" name="Text Box 10"/>
            <p:cNvSpPr/>
            <p:nvPr/>
          </p:nvSpPr>
          <p:spPr>
            <a:xfrm>
              <a:off x="5638680" y="3726000"/>
              <a:ext cx="266724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concatenation: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acom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pe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catapul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5: com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 flipH="1">
              <a:off x="3962520" y="4800600"/>
              <a:ext cx="1676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34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6F4-87CF-4B87-9879-DC25FEBC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cccff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-360" y="83808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odification of string2 and string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ncaten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a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p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catap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5: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20:00:22Z</dcterms:created>
  <dc:creator>kalid</dc:creator>
  <dc:description/>
  <dc:language>en-US</dc:language>
  <cp:lastModifiedBy>SaMeR kh</cp:lastModifiedBy>
  <dcterms:modified xsi:type="dcterms:W3CDTF">2020-12-15T08:35:05Z</dcterms:modified>
  <cp:revision>507</cp:revision>
  <dc:subject/>
  <dc:title>PowerPoint Presentation</dc:title>
</cp:coreProperties>
</file>