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BA474-8439-4A15-9EA5-E2CD6FA64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JO" sz="1200" spc="-1" strike="noStrike">
              <a:solidFill>
                <a:srgbClr val="000000"/>
              </a:solidFill>
              <a:latin typeface="Calibri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"/>
          <p:cNvSpPr/>
          <p:nvPr/>
        </p:nvSpPr>
        <p:spPr>
          <a:xfrm>
            <a:off x="99072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Pearson Education, Inc. Publishing as Pearson Addison-W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2" descr="AW logo"/>
          <p:cNvPicPr/>
          <p:nvPr/>
        </p:nvPicPr>
        <p:blipFill>
          <a:blip r:embed="rId3"/>
          <a:stretch/>
        </p:blipFill>
        <p:spPr>
          <a:xfrm>
            <a:off x="0" y="6173640"/>
            <a:ext cx="914400" cy="68436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"/>
          <p:cNvPicPr/>
          <p:nvPr/>
        </p:nvPicPr>
        <p:blipFill>
          <a:blip r:embed="rId4"/>
          <a:stretch/>
        </p:blipFill>
        <p:spPr>
          <a:xfrm>
            <a:off x="3733920" y="228600"/>
            <a:ext cx="5151240" cy="632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1"/>
          <p:cNvSpPr/>
          <p:nvPr/>
        </p:nvSpPr>
        <p:spPr>
          <a:xfrm>
            <a:off x="68580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Ramez Elmasri and Shamkant Nava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2" descr=""/>
          <p:cNvPicPr/>
          <p:nvPr/>
        </p:nvPicPr>
        <p:blipFill>
          <a:blip r:embed="rId3"/>
          <a:stretch/>
        </p:blipFill>
        <p:spPr>
          <a:xfrm>
            <a:off x="0" y="6345360"/>
            <a:ext cx="685800" cy="512640"/>
          </a:xfrm>
          <a:prstGeom prst="rect">
            <a:avLst/>
          </a:prstGeom>
          <a:ln w="0">
            <a:noFill/>
          </a:ln>
        </p:spPr>
      </p:pic>
      <p:pic>
        <p:nvPicPr>
          <p:cNvPr id="41" name="Picture 3" descr=""/>
          <p:cNvPicPr/>
          <p:nvPr/>
        </p:nvPicPr>
        <p:blipFill>
          <a:blip r:embed="rId4"/>
          <a:stretch/>
        </p:blipFill>
        <p:spPr>
          <a:xfrm>
            <a:off x="8686800" y="0"/>
            <a:ext cx="466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68580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Ramez Elmasri and Shamkant Nava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2" descr="AW logo"/>
          <p:cNvPicPr/>
          <p:nvPr/>
        </p:nvPicPr>
        <p:blipFill>
          <a:blip r:embed="rId3"/>
          <a:stretch/>
        </p:blipFill>
        <p:spPr>
          <a:xfrm>
            <a:off x="0" y="6345360"/>
            <a:ext cx="685800" cy="5126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"/>
          <p:cNvPicPr/>
          <p:nvPr/>
        </p:nvPicPr>
        <p:blipFill>
          <a:blip r:embed="rId4"/>
          <a:stretch/>
        </p:blipFill>
        <p:spPr>
          <a:xfrm>
            <a:off x="8686800" y="0"/>
            <a:ext cx="4665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3"/>
          <p:cNvSpPr/>
          <p:nvPr/>
        </p:nvSpPr>
        <p:spPr>
          <a:xfrm>
            <a:off x="990720" y="6553080"/>
            <a:ext cx="6548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  <a:ea typeface="ヒラギノ角ゴ Pro W3"/>
              </a:rPr>
              <a:t>Copyright © 2011 Pearson Education, Inc. Publishing as Pearson Addison-Wesl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12" descr="AW logo"/>
          <p:cNvPicPr/>
          <p:nvPr/>
        </p:nvPicPr>
        <p:blipFill>
          <a:blip r:embed="rId3"/>
          <a:stretch/>
        </p:blipFill>
        <p:spPr>
          <a:xfrm>
            <a:off x="0" y="6173640"/>
            <a:ext cx="914400" cy="684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"/>
          <p:cNvPicPr/>
          <p:nvPr/>
        </p:nvPicPr>
        <p:blipFill>
          <a:blip r:embed="rId4"/>
          <a:stretch/>
        </p:blipFill>
        <p:spPr>
          <a:xfrm>
            <a:off x="3733920" y="228600"/>
            <a:ext cx="5151240" cy="632772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"/>
          <p:cNvSpPr/>
          <p:nvPr/>
        </p:nvSpPr>
        <p:spPr>
          <a:xfrm>
            <a:off x="380880" y="2209680"/>
            <a:ext cx="3048120" cy="21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entury Gothic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Century Gothic"/>
              </a:rPr>
              <a:t>Databases and Database Us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4"/>
          <p:cNvSpPr/>
          <p:nvPr/>
        </p:nvSpPr>
        <p:spPr>
          <a:xfrm>
            <a:off x="380880" y="2209680"/>
            <a:ext cx="3048120" cy="21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Century Gothic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800000"/>
                </a:solidFill>
                <a:latin typeface="Century Gothic"/>
              </a:rPr>
              <a:t>Databases and Database Us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VERSITY datab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on concerning students, courses, and grades in a university environ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U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ADE_REPOR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REQUISI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1604880"/>
            <a:ext cx="807732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cify structure of records of each file by specify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typ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el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 of alphabetic charac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3" descr=""/>
          <p:cNvPicPr/>
          <p:nvPr/>
        </p:nvPicPr>
        <p:blipFill>
          <a:blip r:embed="rId1"/>
          <a:stretch/>
        </p:blipFill>
        <p:spPr>
          <a:xfrm>
            <a:off x="990720" y="625320"/>
            <a:ext cx="6778440" cy="53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 UNIVERSITY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data to represent each student, course, section, grade report, and prerequisite as a record in appropriate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ationships among the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ipulation involves querying and upda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quer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rieve the tran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e names of students who took the section of the ‘Database’ course offered in fall 2008 and their grades in that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the prerequisites of the ‘Database’ cou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 of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 the class of ‘Smith’ to sopho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new section for the ‘Database’ course for this sem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a grade of ‘A’ for ‘Smith’ in the ‘Database’ section of last seme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Example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ases for designing a databas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quirements specification and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eptua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ical desig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hysical desig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4" descr=""/>
          <p:cNvPicPr/>
          <p:nvPr/>
        </p:nvPicPr>
        <p:blipFill>
          <a:blip r:embed="rId1"/>
          <a:stretch/>
        </p:blipFill>
        <p:spPr>
          <a:xfrm>
            <a:off x="3429000" y="3200400"/>
            <a:ext cx="5202360" cy="32004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177840" y="152280"/>
            <a:ext cx="45464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the Database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ditional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user defines and implements the files needed for a specific software applic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gle repository maintains data that is defined once and then accessed by various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racteristics of the Database Approach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 characteristics of database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lf-describing nature of a databas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ulation between programs and data, and data abst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of multiple views of the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ing of data and multiuser transaction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1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istics of the Databas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ors on the 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behind the Sce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Using the DBMS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Not to Use a DB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lf-Describing Nature of a Database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system contains complete definition of structure and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-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bes structure of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catalog used by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BMS softwa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users who need information about database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ulation Between Programs and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gram-data independ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of data files is stored in DBMS catalog separately from access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-operation independ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ecified in two par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e includes operation name and data types of its argu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lementation can be changed without affecting the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abstr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s program-data independence and program-operation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ptual representation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not include details of how data is stored or how operations are implemen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mode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of data abstraction used to provide conceptual repres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"/>
          <p:cNvPicPr/>
          <p:nvPr/>
        </p:nvPicPr>
        <p:blipFill>
          <a:blip r:embed="rId1"/>
          <a:stretch/>
        </p:blipFill>
        <p:spPr>
          <a:xfrm>
            <a:off x="990720" y="723960"/>
            <a:ext cx="7057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 of Multiple Views of the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bset of the data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rtual dat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rived from the database files but is not explicitly 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user DB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have a variety of distinct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t provide facilities for defining multipl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ing of Data and Multiuser Transaction Proces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 multiple users to access the database at the same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urrency control softwa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hat several users trying to update the same data do so in a controlled mann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of the updates is corr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line transaction processing (OLTP)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ring of Data and Multiuser Transaction Processing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ntral to many database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ng program or process that includes one or more data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er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nsaction appears to execute in isolation from other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mic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roper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ther all the database operations in a transaction are executed or none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ors on the Sc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administrators (DBA)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responsible f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zing access to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rdinating and monitoring its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software and hardwa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designer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responsible for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ying the data to be stor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oosing appropriate structures to represent and store this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ors on the Scene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nd us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whose jobs require access to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sual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parametric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phisticated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lone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tors on the Scene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ystem analy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requirements of end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 programm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ement these specifications as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ditional database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textual or numeric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ultimedia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images, audio clips, and video streams digit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eographic information systems (GI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 and analyze maps, weather data, and satellite im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orkers behind the Sce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BMS system designers and implemen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and implement the DBMS modules and interfaces as a software pack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ol develo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 and implemen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perators and maintenance personn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ible for running and maintenance of hardware and software environment for databas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Using the DBMS Approa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ling redunda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ta norma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normal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times necessary to us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led redunda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improve the performance of qu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tricting unauthorized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nd authorization sub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ileged soft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Using the DBMS Approach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ersist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torage for program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 object in C++ can be stored permanently in an object-oriented DB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pedance mismatch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-oriented database systems typically offer data structu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Using the DBMS Approach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storage structures and search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chniques for efficient query proces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Inde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Buffering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ery processing and opti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Using the DBMS Approach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backup and reco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up and recovery subsyste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DBMS is responsible for recov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ing multiple user interfa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phical user interfaces (GUI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resenting complex relationships among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include numerous varieties of data that are interrelated in many w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Using the DBMS Approach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tegrity constrai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fer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rai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section record must be related to a course rec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quen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nstra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course record must have a unique value for Course_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siness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herent rul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data mod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Using the DBMS Approach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ting inferencing and actions using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ductive database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capabilities for defining deductio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erencing new information from the stored database f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rigg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le activated by updates to the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volved procedures to enforc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vantages of Using the DBMS Approach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implications of using the database 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d application development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ility of up-to-date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nomies of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n Not to Use a DB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re desirable to use regular files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, well-defined database applications not expected to change at a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ent, real-time requirements that may not be met because of DBMS over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bedded systems with limited storage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ultiple-user access to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of related data (recorded fact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B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lized software package for implementing and maintaining a computerized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categories of database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applications have ev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trends: IR, We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verview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 warehouses and online analytical processing (OLAP)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ract and analyze useful business information from very large databa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decision ma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al-time and active database techn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industrial and manufacturing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of relat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n facts that can be recorded and that have implicit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worl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iverse of discourse (Uo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resents some aspect of the real wor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ically coherent collection of data with inherent mea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t for a specific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of a large commercial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azo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tabase management system (DBM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ection of progra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es users to create and maintain a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datab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fy the data types, structures, and constraints of the data to be sto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eta-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base definition or descriptive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by the DBMS in the form of a database catalog or dictio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nipul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ery and update the database miniworl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nerate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ha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databas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multiple users and programs to access the database simultaneous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lication progra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esses database by sending queries to DB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es some data to be retrie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roduction (cont'd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ansa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cause some data to be read and some data to be written into the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t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lude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prot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800000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int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database syste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0070c0"/>
              </a:buClr>
              <a:buSzPct val="80000"/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ow the system to evolve as requirements change over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6T15:58:58Z</dcterms:created>
  <dc:creator/>
  <dc:description/>
  <dc:language>en-US</dc:language>
  <cp:lastModifiedBy>user</cp:lastModifiedBy>
  <dcterms:modified xsi:type="dcterms:W3CDTF">2016-02-02T11:09:32Z</dcterms:modified>
  <cp:revision>36</cp:revision>
  <dc:subject/>
  <dc:title>Slide 1</dc:title>
</cp:coreProperties>
</file>