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2DD23-5635-4010-B036-487F1C1FC2B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E11E-C3F6-47ED-8522-AF88F8A2772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777B-7D97-487F-897E-A468AE1AC16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4558-D8D3-4C20-BFA5-E6E0D4E42A5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A6D1E-32D1-43FF-A2F7-846F3E9A379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BDEBC-EC0B-4654-B482-ED415105E65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D2822-4A11-48A2-908A-E6DF54026FF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CB046-3794-4D63-B61E-EE4C90E5803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85EC-F839-4B31-98F9-AD9A78F4617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B9153-90AB-4FE0-86F2-C7840669846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C612-70D4-401D-B2AE-4BB9A341C2F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B0BF-D723-4A7C-8BF6-061C5F1AE76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CB24F-A1BF-489B-AA95-C347BEFCA13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C91DA-0570-4471-9B15-1501F5BA265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F233B-2140-4007-B128-D10F982A026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FA28F-EDAB-4018-935C-2537D5249DB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DCFAB-D1CA-4028-8610-CB8F4E8EA60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4BBE1-759E-451E-84A2-3EE9A6DCA9E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505D-7854-4ABD-A595-00133F4373F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FE813-13D6-44DE-956E-703BA04AE6E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368D1-9FB9-4137-AEDE-740BA4243F4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48C47-D1E4-4422-BB47-623F31E822C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933C0-A338-439D-825A-3000E325470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2D8F7-E34F-4175-9CA1-46BC501B6D5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02E2-F83E-4FC6-8ABB-50DACC1821D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7970-A4DC-44D4-81EE-08A1E83EF6E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98E81-1B33-4730-8EFA-FECC21C0FFA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9E096-38BB-4469-93B4-A9E6024BFB4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0296F-DD1C-4A35-AC5A-3991CCAE3FA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48DAF-7541-401C-A863-C1A81F73603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F5DC8-4864-463F-9B37-43F1A5DF63A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B57B2-8A18-4FD7-928B-B2CF0F5E2F9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0FB8-5D95-43FA-A010-4B5C0941F44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13C1-EEB6-4E3A-B90F-86E559D059F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DB7FB-AE9F-46BD-9E16-3F6AFC75495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369E-672A-47F7-B802-DE1749E0D681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B59D-1F93-4215-A510-6E524AEE4C9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3F4E1-D047-422D-BF3F-B9343ECD6A2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272F3-AE3A-4861-82D0-2BBB9F4A456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FAAE-2B9B-4CA8-8675-B6918F75C85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DD12C-DDE6-40B4-8A22-A9F86BE25E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D296C-5031-4C8D-80C5-4F73EF38F6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C7C98-1F78-40A4-932C-73C850E575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893A8-600D-4159-B599-5174491AE2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0948-1CA5-4E21-BB71-8EB933F4A7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3315C-2575-4376-BC5E-C9E4C28DD7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480D-ADEA-4A5D-AF7C-D6985B1D227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22D72-6DDA-42D1-A3C6-E7F33AB2E2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4BB8C-3352-4A96-B9BC-9019C1258B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842F3-FB42-460B-A083-5C1BAC8947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CFE41-AFC7-42C8-91C7-4B2E8D354F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9348C-0E62-4BBE-BCED-89B3184E2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3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A7512B79-9B72-4EFB-AECE-5AEB08F8DEF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Rectangle 30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4"/>
          <p:cNvSpPr/>
          <p:nvPr/>
        </p:nvSpPr>
        <p:spPr>
          <a:xfrm>
            <a:off x="830592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677228">
                  <a:alpha val="44313"/>
                </a:srgbClr>
              </a:gs>
              <a:gs pos="100000">
                <a:srgbClr val="5a64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5" descr="awtri_4c UPDATE_color"/>
          <p:cNvPicPr/>
          <p:nvPr/>
        </p:nvPicPr>
        <p:blipFill>
          <a:blip r:embed="rId2"/>
          <a:stretch/>
        </p:blipFill>
        <p:spPr>
          <a:xfrm>
            <a:off x="76320" y="5950080"/>
            <a:ext cx="684000" cy="83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elmasri_thumb"/>
          <p:cNvPicPr/>
          <p:nvPr/>
        </p:nvPicPr>
        <p:blipFill>
          <a:blip r:embed="rId3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83772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1174D59B-1D1B-44F9-8AB2-B1ACEA406AD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99" name="Picture 11" descr="Elmasri_cov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8791D3C-F456-432E-869C-4D136819DE9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Tupl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upl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an ordered set of values (enclosed in angled brackets ‘&lt; … &gt;’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value is derived from an appropri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row in the CUSTOMER relation is a 4-tuple and would consist of four values, for exampl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&lt;632895, "John Smith", "101 Main St. Atlanta, GA  30332", "(404) 894-2000"&gt;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is is called a 4-tuple as it has 4 valu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tuple (row) in the CUSTOMER relation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relation is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f such tuples (row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EAF8DD3E-69A4-4D39-B8B9-28C7D8A950A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Domai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has a logical definition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0000"/>
                </a:solidFill>
                <a:latin typeface="Arial"/>
              </a:rPr>
              <a:t>Example: “USA_phone_numbers” are the set of 10 digit phone numbers valid in the U.S.</a:t>
            </a:r>
            <a:endParaRPr b="0" lang="en-US" sz="19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domain also has a data-type or a format defined for it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0000"/>
                </a:solidFill>
                <a:latin typeface="Arial"/>
              </a:rPr>
              <a:t>The USA_phone_numbers may have a format: (ddd)ddd-dddd where each d is a decimal digit.</a:t>
            </a:r>
            <a:endParaRPr b="0" lang="en-US" sz="19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Dates have various formats such as year, month, date formatted as yyyy-mm-dd, or as dd mm,yyyy etc.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 attribute name designates the role played by a domain in a relation: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Used to interpret the meaning of the data elements corresponding to that attribute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76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800000"/>
                </a:solidFill>
                <a:latin typeface="Arial"/>
              </a:rPr>
              <a:t>Example: The domain Date may be used to define two attributes named “Invoice-date” and “Payment-date” with different meanings</a:t>
            </a:r>
            <a:endParaRPr b="0" lang="en-US" sz="19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A09A3055-B553-409B-9E9D-5578F5C72A0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Stat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 st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a subset of the Cartesian product of the domains of its attribut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domain contains the set of all possible values the attribute can tak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: attribute Cust-name is defined over the domain of character strings of maximum length 25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om(Cust-name) is varchar(25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role these strings play in the CUSTOMER relation is that of the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name of a customer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D105008-B466-404B-913F-DB497AD90AF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mally,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Given R(A1, A2, .........., An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(R) </a:t>
            </a:r>
            <a:r>
              <a:rPr b="0" lang="en-US" sz="2200" spc="-1" strike="noStrike">
                <a:solidFill>
                  <a:srgbClr val="800000"/>
                </a:solidFill>
                <a:latin typeface="Symbol"/>
                <a:ea typeface="Symbol"/>
              </a:rPr>
              <a:t>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dom (A1) X dom (A2) X ....X dom(An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(A1, A2, …, An) is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chem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 is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am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1, A2, …, An are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ttribut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the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(R):  a specific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or "value" or “population”) of relation R – this is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et of tupl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rows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(R) = {t1, t2, …, tn} where each ti is an n-tup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i = &lt;v1, v2, …, vn&gt; where each vj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element-of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dom(Aj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03C7D7DB-0B95-4A97-9FC0-F17CFB77D14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Exampl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t R(A1, A2) be a relation schem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et dom(A1) = {0,1}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Let  dom(A2) =  {a,b,c}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: dom(A1) X dom(A2) is all possible combination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{&lt;0,a&gt; , &lt;0,b&gt; , &lt;0,c&gt;, &lt;1,a&gt;, &lt;1,b&gt;, &lt;1,c&gt; }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lation state r(R) 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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om(A1) X dom(A2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xample: r(R) could be {&lt;0,a&gt; , &lt;0,b&gt; , &lt;1,c&gt; }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is is one possible state (or “population” or “extension”) r of the relation R, defined over A1 and A2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t has three 2-tuples: &lt;0,a&gt; , &lt;0,b&gt; , &lt;1,c&gt;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36B1160-E9EA-451B-87C1-BFBC0281B38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efinition 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609480" y="1600200"/>
          <a:ext cx="8050320" cy="4822920"/>
        </p:xfrm>
        <a:graphic>
          <a:graphicData uri="http://schemas.openxmlformats.org/drawingml/2006/table">
            <a:tbl>
              <a:tblPr/>
              <a:tblGrid>
                <a:gridCol w="3438720"/>
                <a:gridCol w="1111320"/>
                <a:gridCol w="3500280"/>
              </a:tblGrid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Informal Terms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Times New Roman"/>
                        </a:rPr>
                        <a:t>Formal Terms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  <a:ea typeface="Times New Roman"/>
                        </a:rPr>
                        <a:t>Relation</a:t>
                      </a: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Column Heade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ttribu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All possible Column Valu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Doma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R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up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Table Defini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chema of a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6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Populated Tabl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State of the Rel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C83976AD-B7C3-4BD3-A1E6-69CCD3E60FB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– A relation STUDEN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5" name="Rectangle 5"/>
          <p:cNvSpPr/>
          <p:nvPr/>
        </p:nvSpPr>
        <p:spPr>
          <a:xfrm>
            <a:off x="888696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8" descr="fig05_01"/>
          <p:cNvPicPr/>
          <p:nvPr/>
        </p:nvPicPr>
        <p:blipFill>
          <a:blip r:embed="rId1"/>
          <a:stretch/>
        </p:blipFill>
        <p:spPr>
          <a:xfrm>
            <a:off x="152280" y="2219400"/>
            <a:ext cx="8589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7A3E7821-2C34-4CE6-B44F-25A171650E6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dering of tuples in a relation r(R)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 tuples are </a:t>
            </a:r>
            <a:r>
              <a:rPr b="0" i="1" lang="en-US" sz="2800" spc="-1" strike="noStrike">
                <a:solidFill>
                  <a:srgbClr val="800000"/>
                </a:solidFill>
                <a:latin typeface="Arial"/>
              </a:rPr>
              <a:t>not considered to be ordered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, even though they appear to be in the tabular form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rdering of attributes in a relation schema R (and of values within each tuple)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We will consider the attributes in R(A1, A2, ..., An) and the values in t=&lt;v1, v2, ..., vn&gt; to be ordered .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However, a more general alternative definition  of relation does not require this ordering)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B8E25694-F5A7-4AAA-A9A9-74926299BDD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ame state as previous Figure (but with different order of tuples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2" name="Picture 5" descr="fig05_02"/>
          <p:cNvPicPr/>
          <p:nvPr/>
        </p:nvPicPr>
        <p:blipFill>
          <a:blip r:embed="rId1"/>
          <a:stretch/>
        </p:blipFill>
        <p:spPr>
          <a:xfrm>
            <a:off x="228600" y="2444760"/>
            <a:ext cx="8450280" cy="2540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A1D5D5E-5CD9-401F-A5C0-8D446E889CB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Values in a tupl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l values are considered atomic (indivisible)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ach value in a tuple must be from the domain of the attribute for that colum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tuple t = &lt;v1, v2, …, vn&gt; is a tuple (row) in the relation state r of R(A1, A2, …, A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n eac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vi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ust be a value from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dom(Ai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special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null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value is used to represent values that are unknown or inapplicable to certain tuples.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9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4560" y="2590560"/>
            <a:ext cx="6629400" cy="19047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e Relational Data Model and Relational Database Constraint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D885F5D-2856-4530-BBFB-A2C1D358B0B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refer to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component value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of a tuple t by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[Ai] or t.Ai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is the value vi of attribute Ai for tuple 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imilarly, t[Au, Av, ..., Aw] refers to the subtuple of t containing the values of attributes Au, Av, ..., Aw, respectively in t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6D8DA586-ABD8-44DF-83B0-B0FB09B1D5F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Integrity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nstraints ar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ndition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at must hold on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valid relation states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re are thre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ain typ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constraints in the relational model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Ke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Entit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integrit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other implicit constraint is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constraint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very value in a tuple must be from th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domain of its attribut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(or it could b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nul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, if allowed for that attribute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A64E4595-C123-42E5-981C-28C407756DB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Key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uperke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R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s a set of attributes SK of R with the following condition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o two tuples in any valid relation state r(R) will have the same value for SK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at is, for any distinct tuples t1 and t2 in r(R), t1[SK]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t2[SK]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s condition must hold in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any valid state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r(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Ke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f R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"minimal" super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at is, a key is a superkey K such that removal of any attribute from K results in a set of attributes that is not a superkey (does not possess the superkey uniqueness property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BCAC222-DD92-41C5-B8D4-835CE9BF912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Key Constraints (continued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onsider the CAR relation schem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(State, Reg#, SerialNo, Make, Model, Year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 has two key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ey1 = {State, Reg#}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Key2 = {SerialNo}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oth are also superkeys of CAR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{SerialNo, Make} is a superkey but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not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a key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general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y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ke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is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uperkey 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(but not vice versa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y set of attributes that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includes a ke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is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uper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minima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superkey is also a 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F563E8B-9FD2-4582-AAB1-8204DCAD2E1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Key Constraints (continued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a relation has several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andidate key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one is chosen arbitrarily to be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imary ke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primary key attributes are </a:t>
            </a:r>
            <a:r>
              <a:rPr b="0" lang="en-US" sz="2200" spc="-1" strike="noStrike" u="sng">
                <a:solidFill>
                  <a:srgbClr val="800000"/>
                </a:solidFill>
                <a:uFillTx/>
                <a:latin typeface="Arial"/>
              </a:rPr>
              <a:t>underlined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onsider the CAR relation schem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R(State, Reg#, </a:t>
            </a:r>
            <a:r>
              <a:rPr b="0" lang="en-US" sz="2200" spc="-1" strike="noStrike" u="sng">
                <a:solidFill>
                  <a:srgbClr val="800000"/>
                </a:solidFill>
                <a:uFillTx/>
                <a:latin typeface="Arial"/>
              </a:rPr>
              <a:t>SerialNo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, Make, Model, Year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e chose SerialNo as the primary ke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rimary key value is used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uniquely identif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each tuple in a 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Provides the tuple ident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so used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fere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 tuple from another tup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General rule: Choose as primary key the smallest of the candidate keys (in terms of size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Not always applicable – choice is sometimes subjectiv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A34F5B1E-FD0B-408E-A696-CA5FD42A12A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AR table with two candidate keys – LicenseNumber chosen as Primary Key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73" name="Picture 9" descr="fig05_04"/>
          <p:cNvPicPr/>
          <p:nvPr/>
        </p:nvPicPr>
        <p:blipFill>
          <a:blip r:embed="rId1"/>
          <a:stretch/>
        </p:blipFill>
        <p:spPr>
          <a:xfrm>
            <a:off x="228600" y="2558880"/>
            <a:ext cx="84139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401161BA-E1D1-4DE4-BD22-43FFD88F110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Database Schema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al Database Schema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set S of relation schemas that belong to the same databas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 is the name of the whol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database schema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 = {R1, R2, ..., Rn}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R1, R2, …, Rn are the names of the individual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lation schema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within the database 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llowing slide shows a COMPANY database schema with 6 relation schem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6C84C56-F65A-4FF5-8B09-065D419560A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5" descr="fig05_05"/>
          <p:cNvPicPr/>
          <p:nvPr/>
        </p:nvPicPr>
        <p:blipFill>
          <a:blip r:embed="rId1"/>
          <a:stretch/>
        </p:blipFill>
        <p:spPr>
          <a:xfrm>
            <a:off x="533520" y="1523880"/>
            <a:ext cx="8074080" cy="490248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6"/>
          <p:cNvSpPr/>
          <p:nvPr/>
        </p:nvSpPr>
        <p:spPr>
          <a:xfrm>
            <a:off x="380880" y="7621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MPANY Database Sch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898E8D09-D6B9-4B48-A563-3194286C382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ntity Integrit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ntity Integrity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primary key attributes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 PK of each relation schema R in S cannot have null values in any tuple of r(R)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is is because primary key values are used to </a:t>
            </a: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identify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the individual tuples.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[PK] </a:t>
            </a:r>
            <a:r>
              <a:rPr b="0" lang="en-US" sz="2000" spc="-1" strike="noStrike">
                <a:solidFill>
                  <a:srgbClr val="333399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null for any tuple t in r(R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PK has several attributes, null is not allowed in any of these attribut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Note: Other attributes of R may be constrained  to disallow null values, even though they are not members of the primary key.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D0C79B7-1A4A-4BB0-8C1E-C08B3688E56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constraint involving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two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el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previous constraints involve a single  relation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sed to specify 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lationship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mong tuples in two relations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ing relation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nd 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ed relatio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8A0F619-9472-4F49-96D0-A11882FB34E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pter Outlin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al Model Concep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Relational Model Constraints and Relational Database Schema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pdate Operations and Dealing with Constraint Viol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52E54CD-FD8F-4FEF-AC4A-49F2A5C1927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uples in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erencing rel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1 have attributes FK (calle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foreign ke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ttributes) that reference the primary key attributes PK of the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ferenced rel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R2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tuple t1 in R1 is said to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a tuple t2 in R2 if t1[FK] = t2[PK]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ferential integrity constraint can be displayed in a relational database schema as a directed arc from R1.FK to R2.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9405E7FE-237F-48FC-8A24-11F920EB1C1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ferential Integrity (or foreign key) </a:t>
            </a:r>
            <a:br>
              <a:rPr sz="3600"/>
            </a:b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onstrain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tatement of the constrain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he value in the foreign key column (or columns) FK of the th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referencing relatio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R1 can be </a:t>
            </a:r>
            <a:r>
              <a:rPr b="1" lang="en-US" sz="2600" spc="-1" strike="noStrike">
                <a:solidFill>
                  <a:srgbClr val="800000"/>
                </a:solidFill>
                <a:latin typeface="Arial"/>
              </a:rPr>
              <a:t>either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1) a value of an existing primary key value of a corresponding primary key PK in 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ferenced re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R2, 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o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2)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ul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case (2), the FK in R1 shoul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be a part of its own primary key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928302D-FCC7-43BF-B6D5-2369E742914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Displaying a relational database schema and its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relation schema can be displayed as a row of attribute nam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name of the relation is written above the attribute nam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primary key attribute (or attributes) will be underlin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foreign key (referential integrity) constraints is displayed as a directed arc (arrow) from the foreign key attributes to the referenced tabl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an also point the the primary key of the referenced relation for clar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xt slide shows the COMPANY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lational schema diagram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617A4967-2404-4A58-90F3-D61DFFB4756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fig05_07"/>
          <p:cNvPicPr/>
          <p:nvPr/>
        </p:nvPicPr>
        <p:blipFill>
          <a:blip r:embed="rId1"/>
          <a:stretch/>
        </p:blipFill>
        <p:spPr>
          <a:xfrm>
            <a:off x="1295280" y="1592280"/>
            <a:ext cx="6477120" cy="480852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457200" y="7621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Referential Integrity Constraints for COMPANY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88305A7-5C2E-4539-A227-5A1047A0008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Other Types of Constrain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mantic Integrity Constraints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based on application semantics and cannot be expressed by the model per s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xample: “the max. no. of hours per employee for all projects he or she works on is 56 hrs per week”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constraint specific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language may have to be used to express the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QL-99 allows triggers and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SSERTION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to express for some of thes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EAF8B931-4AB6-431F-8F87-43F781F0887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pulated database stat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ll have many tuples in its current relation stat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al database stat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a union of all the individual relation stat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henever the database is changed, a new state ari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Basic operations for changing the databas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NSERT a new tuple in a relat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LETE an existing tuple from a relat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ODIFY an attribute of an existing tupl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xt slide shows an example state for the COMPANY databas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53D41D6-6BB2-4847-9168-B156264779E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9" descr="fig05_06"/>
          <p:cNvPicPr/>
          <p:nvPr/>
        </p:nvPicPr>
        <p:blipFill>
          <a:blip r:embed="rId1"/>
          <a:stretch/>
        </p:blipFill>
        <p:spPr>
          <a:xfrm>
            <a:off x="2666880" y="1523880"/>
            <a:ext cx="3948120" cy="502920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10"/>
          <p:cNvSpPr/>
          <p:nvPr/>
        </p:nvSpPr>
        <p:spPr>
          <a:xfrm>
            <a:off x="380880" y="8380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Populated database state for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15359905-1174-4E7B-8CE1-0E6B371D0E7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Update Operations on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SERT a tu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ELETE a tu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MODIFY a tuple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egrity constraints should not be violated by the update operation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ral update operations may have to be grouped together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Updates may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propag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to cause other updates automatically. This may be necessary to maintain integrity constraint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A4FDFB0-6993-490B-8D3E-EBA54F6DE2B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Update Operations on Rel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case of integrity violation, several actions can be take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ncel the operation that causes the violation (RESTRICT or REJECT option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Perform the operation but inform the user of the viol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Trigger additional updates so the violation is corrected (CASCADE option, SET NULL option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xecute a user-specified error-correction routine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F96F6EF-213E-4893-8C00-9B47496B697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ssible violations for each oper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SERT may violate any of the constraint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omain constraint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one of the attribute values provided for the new tuple is not of the specified attribute domai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Key constraint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the value of a key attribute in the new tuple already exists in another tuple in the rel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eferential integrity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a foreign key value in the new tuple references a primary key value that does not exist in the referenced rel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y integrity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f the primary key value is null in the new tupl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04032A6-3FF5-4077-9823-B989644854A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Model Concep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relational Model of Data is based on the concept of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strength of the relational approach to data management comes from the formal foundation provided by the theory of relation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review the essentials of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mal relational mode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this chapt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acti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there is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tandard mode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based on SQL – this is described in Chapters 8 and 9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99"/>
                </a:solidFill>
                <a:uFillTx/>
                <a:latin typeface="Arial"/>
              </a:rPr>
              <a:t>Note: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There are several important differences between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orm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odel and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actic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model, as we shall see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63695379-6720-420B-8C94-8C8F0CB658F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ssible violations for each oper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LETE may violate only referential integrity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f the primary key value of the tuple being deleted is referenced from other tuples in the databas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be remedied by several actions: RESTRICT, CASCADE, SET NULL (see Chapter 8 for more detail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RESTRICT option: reject the deletion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CASCADE option: propagate the new primary key value into the foreign keys of the referencing tuple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ET NULL option: set the foreign keys of the referencing tuples to NULL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ne of the above options must be specified during database design for each foreign key constraint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07C10A9B-6D60-4F9C-9E00-D38D9FCFC93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Possible violations for each oper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UPDATE may violate domain constraint and NOT NULL constraint on an attribute being modified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y of the other constraints may also be violated, depending on the attribute being updated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Updating the primary key (PK)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imilar to a DELETE followed by an INSERT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Need to specify similar options to DELET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Updating a foreign key (FK)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y violate referential integrit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Updating an ordinary attribute (neither PK nor FK)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n only violate domain constraint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3CC4B58E-0B9C-4883-AEC5-22450F1BC70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esented Relational Model Con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finition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haracteristics of relation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cussed Relational Model Constraints and Relational Database Schema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omain constraints’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Key constraint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ntity integr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eferential integrit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scribed the Relational Update Operations and Dealing with Constraint Violation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C666BF1C-290B-4C86-A7D0-09F17D13001B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-Class Exercis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Text Box 3"/>
          <p:cNvSpPr/>
          <p:nvPr/>
        </p:nvSpPr>
        <p:spPr>
          <a:xfrm>
            <a:off x="228600" y="1606680"/>
            <a:ext cx="8534520" cy="4254480"/>
          </a:xfrm>
          <a:prstGeom prst="rect">
            <a:avLst/>
          </a:prstGeom>
          <a:noFill/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(Taken from Exercise 5.1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nsider the following relations for a database that keeps track of student enrollment in courses and the books adopted for each cour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STUDENT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Name, Major, Bd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COURSE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Cname, Dep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ENROLL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SS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Gr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BOOK_ADOPTION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Course#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Quarter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Book_ISB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TEXT(</a:t>
            </a:r>
            <a:r>
              <a:rPr b="0" lang="en-US" sz="2000" spc="-1" strike="noStrike" u="sng">
                <a:solidFill>
                  <a:srgbClr val="333399"/>
                </a:solidFill>
                <a:uFillTx/>
                <a:latin typeface="Times New Roman"/>
              </a:rPr>
              <a:t>Book_ISBN</a:t>
            </a: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, Book_Title, Publisher, Auth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</a:rPr>
              <a:t>Draw a relational schema diagram specifying the foreign keys for this sche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AE6B7C36-B6E2-4EDE-BCA4-2FDD2A8F302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Relational Model Concept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Relation is a mathematical concept based on the ideas of se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model was first proposed by Dr. E.F. Codd of IBM Research in 1970 in the following paper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"A Relational Model for Large Shared Data Banks," Communications of the ACM, June 1970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above paper caused a major revolution in the field of database management and earned Dr. Codd the coveted ACM Turing Awar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1600200" y="1133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D4C7938B-0414-46C2-A15F-B0746C469A0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formal Defini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Informally, a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relation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looks like a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table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of values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A relation typically contains a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set of rows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The data elements in each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row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represent certain facts that correspond to a real-world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entity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relationship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800000"/>
                </a:solidFill>
                <a:latin typeface="Arial"/>
              </a:rPr>
              <a:t>In the formal model, rows are called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tuples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Each </a:t>
            </a:r>
            <a:r>
              <a:rPr b="1" lang="en-US" sz="2300" spc="-1" strike="noStrike">
                <a:solidFill>
                  <a:srgbClr val="333399"/>
                </a:solidFill>
                <a:latin typeface="Arial"/>
              </a:rPr>
              <a:t>column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has a column header that gives an indication of the meaning of the data items in that column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In the formal model, the column header is called an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attribute name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 (or just </a:t>
            </a:r>
            <a:r>
              <a:rPr b="1" lang="en-US" sz="2100" spc="-1" strike="noStrike">
                <a:solidFill>
                  <a:srgbClr val="800000"/>
                </a:solidFill>
                <a:latin typeface="Arial"/>
              </a:rPr>
              <a:t>attribute</a:t>
            </a:r>
            <a:r>
              <a:rPr b="0" lang="en-US" sz="2100" spc="-1" strike="noStrike">
                <a:solidFill>
                  <a:srgbClr val="800000"/>
                </a:solidFill>
                <a:latin typeface="Arial"/>
              </a:rPr>
              <a:t>)</a:t>
            </a:r>
            <a:endParaRPr b="0" lang="en-US" sz="21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lide Number Placeholder 2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67E0B06-C236-440E-8E20-3D479D3A782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Example of a Rel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8886960" y="6159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6" descr="fig05_01"/>
          <p:cNvPicPr/>
          <p:nvPr/>
        </p:nvPicPr>
        <p:blipFill>
          <a:blip r:embed="rId1"/>
          <a:stretch/>
        </p:blipFill>
        <p:spPr>
          <a:xfrm>
            <a:off x="152280" y="2295360"/>
            <a:ext cx="8490240" cy="307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6257C4BF-3482-457C-8A0F-EDDA6FE5C47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Informal Defini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Key of a Rel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Each row has a value of a data item (or set of items) that uniquely identifies that row in the table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alled the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key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In the STUDENT table, SSN is the key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24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800000"/>
                </a:solidFill>
                <a:latin typeface="Arial"/>
              </a:rPr>
              <a:t>Sometimes row-ids or sequential numbers are assigned as keys to identify the rows in a table</a:t>
            </a:r>
            <a:endParaRPr b="0" lang="en-US" sz="25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575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Called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artificial key</a:t>
            </a:r>
            <a:r>
              <a:rPr b="0" lang="en-US" sz="23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0" i="1" lang="en-US" sz="2300" spc="-1" strike="noStrike">
                <a:solidFill>
                  <a:srgbClr val="333399"/>
                </a:solidFill>
                <a:latin typeface="Arial"/>
              </a:rPr>
              <a:t>surrogate key</a:t>
            </a:r>
            <a:endParaRPr b="0" lang="en-US" sz="23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5- </a:t>
            </a:r>
            <a:fld id="{2670F3EA-EFCF-461F-AC2E-176373BC32C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- Schema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chema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or description) of a Relatio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noted by R(A1, A2, .....An)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R is 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nam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the relatio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800000"/>
                </a:solidFill>
                <a:latin typeface="Arial"/>
              </a:rPr>
              <a:t>attributes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the relation are A1, A2, ..., A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USTOMER (Cust-id, Cust-name, Address, Phone#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CUSTOMER is the relation nam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fined over the four attributes: Cust-id, Cust-name, Address, Phone#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attribute has a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domai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r a set of valid values.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For example, the domain of Cust-id is 6 digit number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user</cp:lastModifiedBy>
  <cp:lastPrinted>2001-11-04T00:51:13Z</cp:lastPrinted>
  <dcterms:modified xsi:type="dcterms:W3CDTF">2016-02-02T11:25:14Z</dcterms:modified>
  <cp:revision>55</cp:revision>
  <dc:subject>The Relational Data Model and Relational Database Constraints</dc:subject>
  <dc:title>Chapter 5</dc:title>
</cp:coreProperties>
</file>