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4CED8-FAC5-48F8-989C-E5A53A2F49BA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8F00C-35F3-4D2B-B1D0-4DEBD4A58CB5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45D9-0DCF-439D-9E67-067EC874B2C0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12767-7F7B-4D29-BE9B-F9229BA56050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82DB9-5A12-4599-88CF-EE9ECB075B38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919B-8AF7-4020-82F7-825A2B2235FC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BB61-011F-4DA8-929C-57F8CF078826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23118-340B-4E4A-B654-7FB63AFF5C8B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E62CF-E8A6-4E69-A978-904A8DAE6A0F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F053C-D0BD-4AE8-96E2-D794226434F6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5CD6-674C-42D2-A660-C7975FF8E57B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EE509-460E-4F32-AA8E-0A8FE6ED09AC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06FE4-DF36-4D0B-8AFA-FA534BA9404E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DAA4-F007-41AC-BD89-27EE681F5F9D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B0761-BB77-44AF-BF78-B5BA0FDCB66A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DB6A3-30D9-4118-8991-FC9B4EE04AC0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79C5D-C892-48AE-A377-1AB567EB3219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55764-A4EC-4EE9-89FC-743248FA48D9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B41B-211F-4B63-AC2B-7569D3A59DB8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97017-66BB-4650-864F-1B6850043E8D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C795B-ED35-42B5-8451-DD93A096AEC2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19650-DF18-45FE-A3DA-B17022F2AB24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332F6-056C-4EC2-B289-AE2FFCC54F36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A66B-DAB9-4076-82EC-8570912AB41D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20A85-23C3-42DD-AC32-764AFB06E5EC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36064-DD98-44CA-8B74-9D35A3009955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70EC-979D-44F3-9955-D4E53B54EB0A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A4DF-D9B5-4223-81AC-19DD265F9F03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09AFB-DD00-49D9-9826-E4688ABFFF77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93B60-7B42-4E9B-B6D2-2500A773CEB4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1894-3751-44CF-860A-F78774CB3730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EF18-D275-4D79-9539-9CFB35AA2774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3E6AA-2D65-46BA-AFE9-012EE89DAF7D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5993D-0920-4445-ABC6-1F4B907A0116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040A3-58DE-4460-8ABC-55B2B674328D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33F84-1F82-46FF-B734-315AAE525950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B2BF-3D02-4F41-ABDA-DA580AAE84A4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D436-2F86-4E2B-AA1F-B82E5F9535B2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5AB06-24DC-4395-B767-7DF3ABC223BE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2D209-6EF5-4D7A-8DA2-5807FC5166DB}" type="slidenum">
              <a:rPr b="0" lang="en-C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2BC79-E447-4963-A499-C1ABE3F0D0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39400" y="3988440"/>
            <a:ext cx="8294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D6784-73A8-4B30-B073-083F3A5CBB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3940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48956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8C3D9-1B06-4DEE-970B-077E26159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044160" y="160020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48920" y="160020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39400" y="398844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044160" y="398844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48920" y="398844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7998B-4D0B-48CC-90B8-B9F6D97BAC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228600" y="303120"/>
            <a:ext cx="779616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3940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67EBD-2CC7-402E-89E6-537181EE31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8956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39400" y="3988440"/>
            <a:ext cx="8294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39400" y="3988440"/>
            <a:ext cx="8294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23940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48956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044160" y="160020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848920" y="160020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239400" y="398844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044160" y="398844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848920" y="3988440"/>
            <a:ext cx="267084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AE64D-D35D-4FC6-8F8A-FC6D2FCC3B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6554F-1B3B-4A0B-8D2C-79C9F21E1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483F3-5B5D-40DD-89EA-4CDAB11AC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28600" y="303120"/>
            <a:ext cx="7796160" cy="460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4DE01-77BF-443A-A257-FDBEBD40F2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3940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89E66-4BC8-4514-A65E-E4628568C9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89560" y="398844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C8DD4F-D164-48AD-A537-B514BD669C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89560" y="1600200"/>
            <a:ext cx="4047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39400" y="3988440"/>
            <a:ext cx="82947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344A7-D6C5-42E0-A4EA-E88D5668EE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45"/>
          <p:cNvGrpSpPr/>
          <p:nvPr/>
        </p:nvGrpSpPr>
        <p:grpSpPr>
          <a:xfrm>
            <a:off x="8935200" y="1449360"/>
            <a:ext cx="208080" cy="5408640"/>
            <a:chOff x="8935200" y="1449360"/>
            <a:chExt cx="208080" cy="5408640"/>
          </a:xfrm>
        </p:grpSpPr>
        <p:sp>
          <p:nvSpPr>
            <p:cNvPr id="1" name="Rectangle 38"/>
            <p:cNvSpPr/>
            <p:nvPr/>
          </p:nvSpPr>
          <p:spPr>
            <a:xfrm flipH="1">
              <a:off x="9041760" y="1449360"/>
              <a:ext cx="101160" cy="5408640"/>
            </a:xfrm>
            <a:prstGeom prst="rect">
              <a:avLst/>
            </a:prstGeom>
            <a:solidFill>
              <a:srgbClr val="67722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4"/>
            <p:cNvGrpSpPr/>
            <p:nvPr/>
          </p:nvGrpSpPr>
          <p:grpSpPr>
            <a:xfrm>
              <a:off x="8935200" y="1449360"/>
              <a:ext cx="143280" cy="5408640"/>
              <a:chOff x="8935200" y="1449360"/>
              <a:chExt cx="143280" cy="5408640"/>
            </a:xfrm>
          </p:grpSpPr>
          <p:sp>
            <p:nvSpPr>
              <p:cNvPr id="3" name="Rectangle 43"/>
              <p:cNvSpPr/>
              <p:nvPr/>
            </p:nvSpPr>
            <p:spPr>
              <a:xfrm flipH="1" rot="10800000">
                <a:off x="8934840" y="1449360"/>
                <a:ext cx="78120" cy="540864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Rectangle 32"/>
              <p:cNvSpPr/>
              <p:nvPr/>
            </p:nvSpPr>
            <p:spPr>
              <a:xfrm flipH="1" rot="10800000">
                <a:off x="9000720" y="1449360"/>
                <a:ext cx="77760" cy="5408640"/>
              </a:xfrm>
              <a:prstGeom prst="rect">
                <a:avLst/>
              </a:prstGeom>
              <a:solidFill>
                <a:srgbClr val="99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Rectangle 37"/>
          <p:cNvSpPr/>
          <p:nvPr/>
        </p:nvSpPr>
        <p:spPr>
          <a:xfrm rot="16200000">
            <a:off x="3845520" y="-3845520"/>
            <a:ext cx="1449360" cy="9140760"/>
          </a:xfrm>
          <a:prstGeom prst="rect">
            <a:avLst/>
          </a:prstGeom>
          <a:solidFill>
            <a:srgbClr val="677228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ldNum" idx="1"/>
          </p:nvPr>
        </p:nvSpPr>
        <p:spPr>
          <a:xfrm>
            <a:off x="693396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9900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Slide 4- </a:t>
            </a:r>
            <a:fld id="{7DFE0295-3DFF-4867-A987-CCC571509289}" type="slidenum"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body"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Rectangle 30"/>
          <p:cNvSpPr/>
          <p:nvPr/>
        </p:nvSpPr>
        <p:spPr>
          <a:xfrm>
            <a:off x="838080" y="639756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7 Ramez Elmasri and Shamkant B. Nava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44"/>
          <p:cNvSpPr/>
          <p:nvPr/>
        </p:nvSpPr>
        <p:spPr>
          <a:xfrm>
            <a:off x="8305920" y="0"/>
            <a:ext cx="609480" cy="6858000"/>
          </a:xfrm>
          <a:prstGeom prst="rect">
            <a:avLst/>
          </a:prstGeom>
          <a:gradFill rotWithShape="0">
            <a:gsLst>
              <a:gs pos="0">
                <a:srgbClr val="677228">
                  <a:alpha val="44313"/>
                </a:srgbClr>
              </a:gs>
              <a:gs pos="100000">
                <a:srgbClr val="5a642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47"/>
          <p:cNvSpPr/>
          <p:nvPr/>
        </p:nvSpPr>
        <p:spPr>
          <a:xfrm rot="16200000">
            <a:off x="3500280" y="-986040"/>
            <a:ext cx="2143080" cy="9144000"/>
          </a:xfrm>
          <a:prstGeom prst="rect">
            <a:avLst/>
          </a:prstGeom>
          <a:solidFill>
            <a:srgbClr val="677228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48"/>
          <p:cNvSpPr/>
          <p:nvPr/>
        </p:nvSpPr>
        <p:spPr>
          <a:xfrm>
            <a:off x="7315200" y="2438280"/>
            <a:ext cx="1828800" cy="2291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5" descr="awtri_4c UPDATE_color"/>
          <p:cNvPicPr/>
          <p:nvPr/>
        </p:nvPicPr>
        <p:blipFill>
          <a:blip r:embed="rId2"/>
          <a:stretch/>
        </p:blipFill>
        <p:spPr>
          <a:xfrm>
            <a:off x="76320" y="5950080"/>
            <a:ext cx="684000" cy="831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6" descr="elmasri_thumb"/>
          <p:cNvPicPr/>
          <p:nvPr/>
        </p:nvPicPr>
        <p:blipFill>
          <a:blip r:embed="rId3"/>
          <a:stretch/>
        </p:blipFill>
        <p:spPr>
          <a:xfrm>
            <a:off x="7419960" y="2514600"/>
            <a:ext cx="1724040" cy="2143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2"/>
          </p:nvPr>
        </p:nvSpPr>
        <p:spPr>
          <a:xfrm>
            <a:off x="837720" y="6397560"/>
            <a:ext cx="4496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pyright © 2007 Ramez Elmasri and Shamkant B. Navath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9"/>
          <p:cNvSpPr/>
          <p:nvPr/>
        </p:nvSpPr>
        <p:spPr>
          <a:xfrm>
            <a:off x="838080" y="639756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pyright © 2007 Ramez Elmasri and Shamkant B. Nava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304560" y="2590560"/>
            <a:ext cx="6629400" cy="190476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nhanced Entity-Relationship (EER) Modeling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748A3426-1244-441B-9A36-D94594EEAE61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pecialization (1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cialization is the process of defining a set of subclasses of a superclass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 set of subclasses is based upon some distinguishing characteristics of the entities in the superclas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Example: {SECRETARY, ENGINEER, TECHNICIAN} is a specialization of EMPLOYEE based upon </a:t>
            </a:r>
            <a:r>
              <a:rPr b="0" i="1" lang="en-US" sz="2600" spc="-1" strike="noStrike">
                <a:solidFill>
                  <a:srgbClr val="800000"/>
                </a:solidFill>
                <a:latin typeface="Arial"/>
              </a:rPr>
              <a:t>job type.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y have several specializations of the same superclas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85B919EF-6625-47DA-A5A6-E64DF4101E30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pecialization (2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: Another specialization of EMPLOYEE based on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method of pay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is {SALARIED_EMPLOYEE, HOURLY_EMPLOYEE}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Superclass/subclass relationships and specialization can be diagrammatically represented in EER diagram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ttributes of a subclass are called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specific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or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local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attributes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r example, the attribute TypingSpeed of SECRETAR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The subclass can also participate in specific relationship types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For example, a relationship BELONGS_TO of HOURLY_EMPLOYE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A1D743BD-AA59-4B76-AAB2-BB1317AC2EB4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" descr="fig04_01"/>
          <p:cNvPicPr/>
          <p:nvPr/>
        </p:nvPicPr>
        <p:blipFill>
          <a:blip r:embed="rId1"/>
          <a:stretch/>
        </p:blipFill>
        <p:spPr>
          <a:xfrm>
            <a:off x="609480" y="1523880"/>
            <a:ext cx="7772400" cy="493740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304920" y="82224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pecialization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C24FF204-A321-44DD-A748-9B4D8BB3EDC3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Generalization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eneralization is the reverse of the specialization proces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veral classes with common features are generalized into a superclass;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original classes become its subclasse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: CAR, TRUCK generalized into VEHICLE;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both CAR, TRUCK become subclasses of the superclass VEHICLE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We can view {CAR, TRUCK} as a specialization of VEHICLE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lternatively, we can view VEHICLE as a generalization of CAR and TRUCK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77464AC6-FC3C-4B19-B97B-CE927CAB1444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fig04_03"/>
          <p:cNvPicPr/>
          <p:nvPr/>
        </p:nvPicPr>
        <p:blipFill>
          <a:blip r:embed="rId1"/>
          <a:stretch/>
        </p:blipFill>
        <p:spPr>
          <a:xfrm>
            <a:off x="762120" y="1600200"/>
            <a:ext cx="7238880" cy="48481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"/>
          <p:cNvSpPr/>
          <p:nvPr/>
        </p:nvSpPr>
        <p:spPr>
          <a:xfrm>
            <a:off x="533520" y="71604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Generalization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0809D3E2-7D62-4893-877E-2E5A51B1E3BD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Generalization and Specialization (1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agrammatic notation are sometimes used to distinguish between generalization and specializ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Arrow pointing to the generalized superclass represents a generalization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Arrows pointing to the specialized subclasses represent a specialization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We </a:t>
            </a:r>
            <a:r>
              <a:rPr b="0" i="1" lang="en-US" sz="2600" spc="-1" strike="noStrike">
                <a:solidFill>
                  <a:srgbClr val="800000"/>
                </a:solidFill>
                <a:latin typeface="Arial"/>
              </a:rPr>
              <a:t>do not use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this notation because it is often subjective as to which process is more appropriate for a particular situation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We advocate not drawing any arrows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AE6BCFF4-5F3F-4329-A770-DABA51FB1677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Generalization and Specialization (2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ata Modeling with Specialization and Generaliz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A superclass or subclass represents a collection (or set or grouping) of entities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It also represents a particular </a:t>
            </a:r>
            <a:r>
              <a:rPr b="0" i="1" lang="en-US" sz="2600" spc="-1" strike="noStrike">
                <a:solidFill>
                  <a:srgbClr val="800000"/>
                </a:solidFill>
                <a:latin typeface="Arial"/>
              </a:rPr>
              <a:t>type of entity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Shown in rectangles in EER diagrams (as are entity types)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We can call all entity types (and their corresponding collections) </a:t>
            </a:r>
            <a:r>
              <a:rPr b="1" i="1" lang="en-US" sz="2600" spc="-1" strike="noStrike">
                <a:solidFill>
                  <a:srgbClr val="800000"/>
                </a:solidFill>
                <a:latin typeface="Arial"/>
              </a:rPr>
              <a:t>classes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, whether they are entity types, superclasses, or subclasses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32270EB9-DCDC-4C8C-8E9F-1CDF65574AF4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nstraints on Specialization and Generalization (1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we can determine exactly those entities that will become members of each subclass by a condition, the subclasses are called predicate-defined (or condition-defined) subclasses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Condition is a constraint that determines subclass members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Display a predicate-defined subclass by writing the predicate condition next to the line attaching the subclass to its superclass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5C49A8B6-A24D-4738-B36A-067E41017747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nstraints on Specialization and Generalization (2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all subclasses in a specialization have membership condition on same attribute of the superclass, specialization is called an attribute-defined specialization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ttribute is called the defining attribute of the specialization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Example: JobType is the defining attribute of the specialization {SECRETARY, TECHNICIAN, ENGINEER} of EMPLOYEE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f no condition determines membership, the subclass is called user-defined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Membership in a subclass is determined by the database users by applying an operation to add an entity to the subclass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Membership in the subclass is specified individually for each entity in the superclass by the user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2EA6BC38-8B7E-4385-9D51-19E3C2282D9D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Displaying an attribute-defined specialization in EER diagram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52" name="Picture 5" descr="fig04_04"/>
          <p:cNvPicPr/>
          <p:nvPr/>
        </p:nvPicPr>
        <p:blipFill>
          <a:blip r:embed="rId1"/>
          <a:stretch/>
        </p:blipFill>
        <p:spPr>
          <a:xfrm>
            <a:off x="272880" y="1962000"/>
            <a:ext cx="8413920" cy="391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CDE4CF5E-9CB5-4070-836A-422673427E9F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hapter Outlin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ER stands for Enhanced ER or Extended ER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ER Model Concept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Includes all modeling concepts of basic ER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dditional concepts: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ubclasses/superclasse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pecialization/generalization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ategories (UNION types)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ttribute and relationship inheritanc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These are fundamental to conceptual modeling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additional EER concepts are used to model applications more completely and more accurately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EER includes some object-oriented concepts, such as inheritance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BDA4F19A-CFCF-4B7C-8E4E-BC9E890CF810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nstraints on Specialization and Generalization (3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wo basic constraints can apply to a specialization/generalization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Disjointness Constraint: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Completeness Constraint: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689C605F-4565-4B63-9612-F54B47726D42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nstraints on Specialization and Generalization (4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isjointness Constraint: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Specifies that the subclasses of the specialization must be </a:t>
            </a:r>
            <a:r>
              <a:rPr b="0" i="1" lang="en-US" sz="2600" spc="-1" strike="noStrike">
                <a:solidFill>
                  <a:srgbClr val="800000"/>
                </a:solidFill>
                <a:latin typeface="Arial"/>
              </a:rPr>
              <a:t>disjoint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 entity can be a member of at most one of the subclasses of the specializ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Specified by </a:t>
            </a:r>
            <a:r>
              <a:rPr b="1" i="1" lang="en-US" sz="2600" spc="-1" strike="noStrike" u="sng">
                <a:solidFill>
                  <a:srgbClr val="800000"/>
                </a:solidFill>
                <a:uFillTx/>
                <a:latin typeface="Arial"/>
              </a:rPr>
              <a:t>d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in EER diagram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If not disjoint, specialization is </a:t>
            </a:r>
            <a:r>
              <a:rPr b="0" i="1" lang="en-US" sz="2600" spc="-1" strike="noStrike">
                <a:solidFill>
                  <a:srgbClr val="800000"/>
                </a:solidFill>
                <a:latin typeface="Arial"/>
              </a:rPr>
              <a:t>overlapping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at is the same entity may be a member of more than one subclass of the specialization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Specified by </a:t>
            </a:r>
            <a:r>
              <a:rPr b="1" i="1" lang="en-US" sz="2600" spc="-1" strike="noStrike" u="sng">
                <a:solidFill>
                  <a:srgbClr val="800000"/>
                </a:solidFill>
                <a:uFillTx/>
                <a:latin typeface="Arial"/>
              </a:rPr>
              <a:t>o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in EER diagram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FE1CD0F8-8B9A-4B20-AE4A-E73A80F83926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nstraints on Specialization and Generalization (5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leteness Constraint: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800000"/>
                </a:solidFill>
                <a:latin typeface="Arial"/>
              </a:rPr>
              <a:t>Total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specifies that every entity in the superclass must be a member of some subclass in the specialization/generalization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Shown in EER diagrams by a </a:t>
            </a:r>
            <a:r>
              <a:rPr b="1" i="1" lang="en-US" sz="2600" spc="-1" strike="noStrike" u="sng">
                <a:solidFill>
                  <a:srgbClr val="800000"/>
                </a:solidFill>
                <a:uFillTx/>
                <a:latin typeface="Arial"/>
              </a:rPr>
              <a:t>double line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800000"/>
                </a:solidFill>
                <a:latin typeface="Arial"/>
              </a:rPr>
              <a:t>Partial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allows an entity not to belong to any of the subclasses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Shown in EER diagrams by a single line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323D1E42-9942-4114-B957-F1B196E32BD2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Constraints on Specialization and Generalization (6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Hence, we have four types of specialization/generalization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Disjoint, total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Disjoint, partial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Overlapping, total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Overlapping, partial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Note: Generalization usually is total because the superclass is derived from the subclasses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3F4D04AD-F50A-4D6B-9D4B-37CADA618FCC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Example of disjoint partial Specialization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67" name="Picture 5" descr="fig04_04"/>
          <p:cNvPicPr/>
          <p:nvPr/>
        </p:nvPicPr>
        <p:blipFill>
          <a:blip r:embed="rId1"/>
          <a:stretch/>
        </p:blipFill>
        <p:spPr>
          <a:xfrm>
            <a:off x="380880" y="1847880"/>
            <a:ext cx="8305920" cy="386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lide Number Placeholder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47886FAE-77E6-4B3A-8E9C-B8938334038D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fig04_05"/>
          <p:cNvPicPr/>
          <p:nvPr/>
        </p:nvPicPr>
        <p:blipFill>
          <a:blip r:embed="rId1"/>
          <a:stretch/>
        </p:blipFill>
        <p:spPr>
          <a:xfrm>
            <a:off x="147600" y="2432160"/>
            <a:ext cx="8539200" cy="237636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304920" y="86832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Example of overlapping total Speci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758478FA-26E6-49CB-80ED-0C0D574809B5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pecialization/Generalization Hierarchies, Lattices &amp; Shared Subclasses (1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 subclass may itself have further subclasses specified on it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forms a hierarchy or a lattice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Hierarchy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has a constraint that every subclass has only one superclass (called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single inheritanc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); this is basically a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tree structure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 a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lattic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a subclass can be subclass of more than one superclass (called </a:t>
            </a:r>
            <a:r>
              <a:rPr b="1" i="1" lang="en-US" sz="2800" spc="-1" strike="noStrike">
                <a:solidFill>
                  <a:srgbClr val="333399"/>
                </a:solidFill>
                <a:latin typeface="Arial"/>
              </a:rPr>
              <a:t>multiple inheritanc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1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E1BA91AD-BEE9-4022-B598-94ADEA2BCB36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fig04_06"/>
          <p:cNvPicPr/>
          <p:nvPr/>
        </p:nvPicPr>
        <p:blipFill>
          <a:blip r:embed="rId1"/>
          <a:stretch/>
        </p:blipFill>
        <p:spPr>
          <a:xfrm>
            <a:off x="228600" y="2192400"/>
            <a:ext cx="8440560" cy="342432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4"/>
          <p:cNvSpPr/>
          <p:nvPr/>
        </p:nvSpPr>
        <p:spPr>
          <a:xfrm>
            <a:off x="457200" y="8380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Shared Subclass “Engineering_Manag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964D58DE-5AD8-47CB-838F-0E90875C27F3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pecialization/Generalization Hierarchies, Lattices &amp; Shared Subclasses (2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 a lattice or hierarchy, a subclass inherits attributes not only of its direct superclass, but also of all its predecessor superclass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subclass with more than one superclass is called a shared subclass (multiple inheritance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an have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specialization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hierarchies or lattices, or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generalization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hierarchies or lattices,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depending on how they were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derived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e just us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pecializatio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(to stand for the end result of either specialization or generalization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55286BF4-5273-4632-BB98-9030E3E128D9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pecialization/Generalization Hierarchies, Lattices &amp; Shared Subclasses (3)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specializa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start with an entity type and then define subclasses of the entity type by successive specialization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called a </a:t>
            </a:r>
            <a:r>
              <a:rPr b="0" i="1" lang="en-US" sz="2600" spc="-1" strike="noStrike">
                <a:solidFill>
                  <a:srgbClr val="800000"/>
                </a:solidFill>
                <a:latin typeface="Arial"/>
              </a:rPr>
              <a:t>top down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conceptual refinement process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generalization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, start with many entity types and generalize those that have common propertie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Called a </a:t>
            </a:r>
            <a:r>
              <a:rPr b="0" i="1" lang="en-US" sz="2600" spc="-1" strike="noStrike">
                <a:solidFill>
                  <a:srgbClr val="800000"/>
                </a:solidFill>
                <a:latin typeface="Arial"/>
              </a:rPr>
              <a:t>bottom up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conceptual synthesis process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 practice, a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combination of both processe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is usually employed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958E2153-96D5-43A8-AFC0-C6B3F12F8F4C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Subclasses and Superclasses (1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n entity type may have additional meaningful subgroupings of its entiti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Example: EMPLOYEE may be further grouped into: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CRETARY, ENGINEER, TECHNICIAN, …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Based on the EMPLOYEE’s Job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EMPLOYEEs who are managers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ALARIED_EMPLOYEE, HOURLY_EMPLOYEE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Based on the EMPLOYEE’s method of pay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ER diagrams extend ER diagrams to represent these additional subgroupings, called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ubclass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ubtype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A5F8AA91-74AB-4D58-8B8F-1E9A91333180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pecialization / Generalization Lattice Example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(UNIVERSITY)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85" name="Picture 5" descr="fig04_07"/>
          <p:cNvPicPr/>
          <p:nvPr/>
        </p:nvPicPr>
        <p:blipFill>
          <a:blip r:embed="rId1"/>
          <a:stretch/>
        </p:blipFill>
        <p:spPr>
          <a:xfrm>
            <a:off x="1676520" y="1600200"/>
            <a:ext cx="5867280" cy="487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E120651B-4473-46ED-A7F2-66FCD8674C0E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ategories (UNION TYPES) (1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ll of th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uperclass/subclass relationship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we have seen thus far have a single superclas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shared subclass is a subclass in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more than one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distinct superclass/subclass relationship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each relationships has a single superclas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shared subclass leads to multiple inheritance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 some cases, we need to model a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ingle superclass/subclass relationship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more than on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uperclas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perclasses can represent different entity type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ch a subclass is called a category or UNION TYPE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B3A17E86-04BE-4A29-A29E-CC48A7F447ED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ategories (UNION TYPES) (2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: In a database for vehicle registration, a vehicle owner can be a PERSON, a BANK (holding a lien on a vehicle) or a COMPANY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category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(UNION type) called OWNER is created to represent a subset of the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union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of the three superclasses COMPANY, BANK, and PERSON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 category member must exist in </a:t>
            </a:r>
            <a:r>
              <a:rPr b="1" i="1" lang="en-US" sz="2200" spc="-1" strike="noStrike">
                <a:solidFill>
                  <a:srgbClr val="800000"/>
                </a:solidFill>
                <a:latin typeface="Arial"/>
              </a:rPr>
              <a:t>at least one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of its superclasse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fference from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shared subclas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, which is a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subset of the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intersection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of its superclasse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shared subclass member must exist in </a:t>
            </a:r>
            <a:r>
              <a:rPr b="1" i="1" lang="en-US" sz="2200" spc="-1" strike="noStrike">
                <a:solidFill>
                  <a:srgbClr val="800000"/>
                </a:solidFill>
                <a:latin typeface="Arial"/>
              </a:rPr>
              <a:t>all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of its superclasse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E6DEBB44-11A9-416E-81ED-C7EA7547C94F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Two categories (UNION types): OWNER, REGISTERED_VEHICL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94" name="Picture 7" descr="fig04_08"/>
          <p:cNvPicPr/>
          <p:nvPr/>
        </p:nvPicPr>
        <p:blipFill>
          <a:blip r:embed="rId1"/>
          <a:stretch/>
        </p:blipFill>
        <p:spPr>
          <a:xfrm>
            <a:off x="2514600" y="1600200"/>
            <a:ext cx="474804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577C7437-03EE-4296-B786-E490B99C0DD8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Formal Definitions of EER Model (1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lass C: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 type of entity with a corresponding set of entities: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ould be entity type, subclass, superclass, or category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te: The definition of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relationship typ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in ER/EER should have 'entity type' replaced with 'class‘ to allow relationships among classes in general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bclass S is a class whose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ype inherits all the attributes and relationship of a class C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et of entities must always be a subset of the set of entities of the other class C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S 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  <a:ea typeface="ヒラギノ角ゴ Pro W3"/>
              </a:rPr>
              <a:t>⊆</a:t>
            </a: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 C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C is called the superclass of S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A superclass/subclass relationship exists between S and C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CD97E04C-B3BA-4804-983C-8836F7B4CD42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Formal Definitions of EER Model (2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pecialization Z: Z = {S1, S2,…, Sn} is a set of subclasses with same superclass G; hence, G/Si is a superclass relationship for i = 1, …., n.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G is called a generalization of the subclasses {S1, S2,…, Sn}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Z is total if we always have: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1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∪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2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∪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∪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n = G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therwise, Z is partial.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Z is disjoint if we always have: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i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∩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S2 empty-set for i ≠ j;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Otherwise, Z is overlapping.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DB92F1FC-A8A5-430A-821A-DAD78F03889A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Formal Definitions of EER Model (3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bclass S of C is predicate defined if predicate (condition)  p on attributes of C is used to specify membership in S;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that is, S = C[p], where C[p] is the set of entities in C that satisfy condition p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 subclass not defined by a predicate is called user-defined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ttribute-defined specialization: if a predicate A = ci (where A is an attribute of G and ci is a constant value from the domain of A) is used to specify membership in each subclass Si in Z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Note: If ci ≠ cj for i ≠ j, and A is single-valued, then the attribute-defined specialization will be disjoint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92670D63-A15F-4872-AFA5-04C7AB99A185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Formal Definitions of EER Model (4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ategory or UNION type T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A class that is a subset of the </a:t>
            </a:r>
            <a:r>
              <a:rPr b="0" i="1" lang="en-US" sz="2600" spc="-1" strike="noStrike">
                <a:solidFill>
                  <a:srgbClr val="800000"/>
                </a:solidFill>
                <a:latin typeface="Arial"/>
              </a:rPr>
              <a:t>union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of n defining superclasses </a:t>
            </a:r>
            <a:br>
              <a:rPr sz="2600"/>
            </a:b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D1, D2,…Dn, n&gt;1: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⊆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(D1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∪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D2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∪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…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ヒラギノ角ゴ Pro W3"/>
              </a:rPr>
              <a:t>∪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Dn)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Can have a predicate pi on the attributes of Di to specify entities of Di that are members of T.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If a predicate is specified on every Di: T = (D1[p1] 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  <a:ea typeface="ヒラギノ角ゴ Pro W3"/>
              </a:rPr>
              <a:t>∪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D2[p2] 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  <a:ea typeface="ヒラギノ角ゴ Pro W3"/>
              </a:rPr>
              <a:t>∪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…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  <a:ea typeface="ヒラギノ角ゴ Pro W3"/>
              </a:rPr>
              <a:t>∪</a:t>
            </a: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 Dn[pn])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1FC319F4-97BF-4F54-B41E-E0828BC7A79D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Alternative diagrammatic notation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R/EER diagrams are a specific notation for displaying the concepts of the model diagrammatically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B design tools use many alternative notations for the same or similar concep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ne popular alternative notation uses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UML class diagram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ee next slides for UML class diagrams and other alternative notati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C0CA4954-91FA-4465-B71C-CCD91D2DE0C8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UML Example for Displaying Specialization / Generalization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12" name="Picture 7" descr="fig04_10"/>
          <p:cNvPicPr/>
          <p:nvPr/>
        </p:nvPicPr>
        <p:blipFill>
          <a:blip r:embed="rId1"/>
          <a:stretch/>
        </p:blipFill>
        <p:spPr>
          <a:xfrm>
            <a:off x="2212920" y="1590840"/>
            <a:ext cx="4645080" cy="49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B1979B6F-7067-4FB3-935D-A09F73129956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" descr="fig04_01"/>
          <p:cNvPicPr/>
          <p:nvPr/>
        </p:nvPicPr>
        <p:blipFill>
          <a:blip r:embed="rId1"/>
          <a:stretch/>
        </p:blipFill>
        <p:spPr>
          <a:xfrm>
            <a:off x="990720" y="1619280"/>
            <a:ext cx="7467480" cy="474336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4"/>
          <p:cNvSpPr/>
          <p:nvPr/>
        </p:nvSpPr>
        <p:spPr>
          <a:xfrm>
            <a:off x="838080" y="59364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Subclasses and Superc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040FF78C-7687-4073-85C9-AD77C592CBC0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Alternative Diagrammatic Notation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15" name="Picture 16" descr="figA_01"/>
          <p:cNvPicPr/>
          <p:nvPr/>
        </p:nvPicPr>
        <p:blipFill>
          <a:blip r:embed="rId1"/>
          <a:stretch/>
        </p:blipFill>
        <p:spPr>
          <a:xfrm>
            <a:off x="2435400" y="1523880"/>
            <a:ext cx="4041720" cy="508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20490E97-D85D-4A43-8E5A-62E640CCBD30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General Conceptual Modeling Concept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ENERAL DATA ABSTRACTION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CLASSIFICATION and INSTANTIATION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AGGREGATION and ASSOCIATION (relationships)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GENERALIZATION and SPECIALIZATION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IDENTIFICATION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NSTRAI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CARDINALITY (Min and Max)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COVERAGE (Total vs. Partial, and Exclusive (disjoint) vs. Overlapping)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F4F24E74-67E3-4BC4-BD60-DDD58A5931AF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Summary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ntroduced the EER model concep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Class/subclass relationships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Specialization and generalization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Inheritance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These augment the basic ER model concepts introduced in Chapter 3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ER diagrams and alternative notations were presented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9814AB48-729F-4518-AF62-06B75036DB51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Subclasses and Superclasses (2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ch of these subgroupings is a subset of EMPLOYEE entitie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ach is called a subclass of EMPLOYEE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MPLOYEE is the superclass for each of these subclasses 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se are called superclass/subclass relationship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EMPLOYEE/SECRETARY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EMPLOYEE/TECHNICIAN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EMPLOYEE/MANAGER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…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4E1EA4E9-B708-42F5-981A-033C520052D7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Subclasses and Superclasses (3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se are also called IS-A relationship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SECRETARY IS-A EMPLOYEE, TECHNICIAN IS-A EMPLOYEE, ….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ote: An entity that is member of a subclass represents the same real-world entity as some member of the superclas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The subclass member is the same entity in a </a:t>
            </a:r>
            <a:r>
              <a:rPr b="0" i="1" lang="en-US" sz="2200" spc="-1" strike="noStrike">
                <a:solidFill>
                  <a:srgbClr val="800000"/>
                </a:solidFill>
                <a:latin typeface="Arial"/>
              </a:rPr>
              <a:t>distinct specific role</a:t>
            </a: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n entity cannot exist in the database merely by being a member of a subclass; it must also be a member of the superclass 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 member of the superclass can be optionally included as a member of any number of its subclasses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A1C80C56-8099-4208-ACA5-3A271F928577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Subclasses and Superclasses (4)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 salaried employee who is also an engineer belongs to the two subclasses: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GINEER, an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ALARIED_EMPLOYEE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1" marL="735480" indent="-282960">
              <a:spcBef>
                <a:spcPts val="550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0000"/>
                </a:solidFill>
                <a:latin typeface="Arial"/>
              </a:rPr>
              <a:t>A salaried employee who is also an engineering manager belongs to the three subclasses:</a:t>
            </a:r>
            <a:endParaRPr b="0" lang="en-US" sz="2200" spc="-1" strike="noStrike">
              <a:solidFill>
                <a:srgbClr val="8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MANAGER,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ENGINEER, and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990033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SALARIED_EMPLOYEE </a:t>
            </a:r>
            <a:endParaRPr b="0" lang="en-US" sz="2000" spc="-1" strike="noStrike">
              <a:solidFill>
                <a:srgbClr val="333399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t is not necessary that every entity in a superclass be a member of some subclass</a:t>
            </a:r>
            <a:endParaRPr b="0" lang="en-US" sz="2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089EB07B-7D8B-4424-AC35-94BA01604EF7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Representing Specialization in EER Diagram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19" name="Picture 4" descr="fig04_04"/>
          <p:cNvPicPr/>
          <p:nvPr/>
        </p:nvPicPr>
        <p:blipFill>
          <a:blip r:embed="rId1"/>
          <a:stretch/>
        </p:blipFill>
        <p:spPr>
          <a:xfrm>
            <a:off x="325440" y="1820880"/>
            <a:ext cx="828504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3"/>
          <p:cNvSpPr/>
          <p:nvPr/>
        </p:nvSpPr>
        <p:spPr>
          <a:xfrm>
            <a:off x="69343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Arial"/>
              </a:rPr>
              <a:t>Slide 4- </a:t>
            </a:r>
            <a:fld id="{4FF7C80C-A99D-438C-BF23-1429F698F35C}" type="slidenum">
              <a:rPr b="1" lang="en-US" sz="1400" spc="-1" strike="noStrike">
                <a:solidFill>
                  <a:srgbClr val="990033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303120"/>
            <a:ext cx="7796160" cy="99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Arial"/>
              </a:rPr>
              <a:t>Attribute Inheritance in Superclass / Subclass Relationship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39400" y="1600200"/>
            <a:ext cx="8294760" cy="4572000"/>
          </a:xfrm>
          <a:prstGeom prst="rect">
            <a:avLst/>
          </a:prstGeom>
          <a:noFill/>
          <a:ln w="0">
            <a:noFill/>
          </a:ln>
        </p:spPr>
        <p:txBody>
          <a:bodyPr r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An entity that is member of a subclass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inherits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All attributes of the entity as a member of the superclass 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All relationships of the entity as a member of the superclass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0033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In the previous slide, SECRETARY (as well as TECHNICIAN and ENGINEER) inherit the attributes Name, SSN, …, from EMPLOYEE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339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0000"/>
                </a:solidFill>
                <a:latin typeface="Arial"/>
              </a:rPr>
              <a:t>Every SECRETARY entity will have values for the inherited attributes</a:t>
            </a:r>
            <a:endParaRPr b="0" lang="en-US" sz="2600" spc="-1" strike="noStrike">
              <a:solidFill>
                <a:srgbClr val="8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9:46:41Z</dcterms:created>
  <dc:creator>Elmasri/Navathe</dc:creator>
  <dc:description/>
  <dc:language>en-US</dc:language>
  <cp:lastModifiedBy>Emad</cp:lastModifiedBy>
  <cp:lastPrinted>2001-11-04T00:51:13Z</cp:lastPrinted>
  <dcterms:modified xsi:type="dcterms:W3CDTF">2016-02-02T17:55:15Z</dcterms:modified>
  <cp:revision>58</cp:revision>
  <dc:subject>Enhanced Entity-Relationship (EER) Modeling</dc:subject>
  <dc:title>Chapter 4</dc:title>
</cp:coreProperties>
</file>